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  <p:sldId id="290" r:id="rId65"/>
    <p:sldId id="291" r:id="rId66"/>
    <p:sldId id="292" r:id="rId67"/>
    <p:sldId id="293" r:id="rId68"/>
    <p:sldId id="294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slide" Target="slides/slide35.xml"/><Relationship Id="rId66" Type="http://schemas.openxmlformats.org/officeDocument/2006/relationships/slide" Target="slides/slide36.xml"/><Relationship Id="rId67" Type="http://schemas.openxmlformats.org/officeDocument/2006/relationships/slide" Target="slides/slide37.xml"/><Relationship Id="rId68" Type="http://schemas.openxmlformats.org/officeDocument/2006/relationships/slide" Target="slides/slide38.xml"/><Relationship Id="rId69" Type="http://schemas.openxmlformats.org/officeDocument/2006/relationships/slide" Target="slides/slide3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8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ftr" idx="8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 type="sldNum" idx="8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7087-A627-441B-BF91-7133611FC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AC13-9AA8-43C8-A849-ADD5E76BE2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50F8-4C3D-4D7C-AE2F-5C4310A51E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BAAA-3E46-4EEB-B1C1-BCCF935A6E6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B12-C929-4C40-BB9B-5879C45752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6643-C189-4EDB-AD78-4FE80D3C77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99B-C7FB-459B-852F-D0D2F071D8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DE1-E056-4BA1-9D0E-2204BBA17F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0DD8-09F1-4660-B422-AA64D50705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475A-84D7-490A-8EF8-C782D56C5F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D60C-3A07-4B19-B17E-A898145E92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41E1-5BBD-443C-84F4-4329BF389FA5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380E-F266-4EED-ADA5-4229F512BD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C377-9464-4CAB-BFD3-8E8ABF0098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37E6-F06D-46F9-AAA0-85DEBA8D94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0277-7B89-422A-87BA-526AA327B2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F9F8-7157-4C55-B3F8-E229B47E84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49BC-C284-4E54-AE31-A429EC3CD5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644E-9FC8-4D92-B0DF-8197D63FE8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AAB7-09B6-4807-B162-E70AEFC19B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4602-583F-48D0-9372-DFCDA2AC83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30C5-32F1-4FD2-9043-1EEE1B0B31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70FC-A293-41C3-99E4-7339F273FF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9119-4941-4B9B-81DF-23490E7884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25A9-EC45-4952-8B2F-F815910BD5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5863-2B28-4C60-A478-5A563C3205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541-E771-45FE-8BB5-0BE686691D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EC7B-CAA2-40DB-B81D-9AA4264449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5EF6-3B79-4E36-B784-0EA2BC2A1257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DCF3-8220-4777-9A94-EBD0C738F0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6773-16D1-4EC0-8A73-FB7C0C1523A8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6B8B-C80C-4AB0-9EA2-9461DC391D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C9F1-2982-42EA-A2C5-993FA8D67F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03CB-7D88-48C8-9811-5656B113B1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44B6-699B-4FC6-8D6C-4E7C7CD4DE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8D2D-A94B-4AAF-9BE0-A438BB5988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1589-A4D4-4B3E-A521-AF83F4ADD43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638E-F247-42C3-B6CC-1025C2B0CE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150-7A9E-4E1B-9A7F-5FD9D422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9C0-5178-4348-8F79-9F53D972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6CFE3F-AD05-4882-8C5A-EC24D5D3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2B8EB-0700-4816-946E-569DE19B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47C1E-0EE8-4EE0-B2F2-BB1EE26D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8CA50-6435-463A-8E27-1176D1B9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300F5-7197-4B55-9B52-5D0AC89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0B28F-C3CC-4FD1-9323-D160870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8281C-6A17-4DCF-9077-529A936D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7E6D8-4A2C-42B1-8C7E-28BE09BA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59073-CB56-4E8C-BA15-D45268A7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E9FA4-97FD-47C3-AAC4-B48FDD36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545-D3A4-4312-B2F5-C1647748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6E44F-EB9D-4A23-8F08-9C62F20D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5DF52-77FB-4615-B54B-2D062AA4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3AB27-5C90-416E-8896-D6933B1B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8997C-DBD5-4266-960F-AD0821C4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2392E-8FAC-4003-921B-74EC118F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A5A390-E476-4570-91E4-8CBFD1F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748DB-5E45-4A52-B006-BC2AA59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CD140-0FB7-487B-B5AC-DFFDE97D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07DC5-26CC-40DA-9AD5-41C46C1F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7FBF2-626F-4877-8F7D-CE43812A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C3F-A6E1-4092-B189-A721DDF4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B78FA-10C7-484C-ADE6-4F0C1C17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F7ACC9-FFE7-4B40-8681-AC0BBB41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6A861D-3127-4486-AADC-A21342B1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4C91C7-2D94-479D-A10D-5261724E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46D62F-E6FF-47A2-88CD-7EC366EE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FB5B37-377B-4DA7-9F3D-DAF41C7A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5A3A32-B68F-40C6-959B-3CBA69E3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689106-62D6-42AD-ADA3-56A74E4A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291842-0BE8-4BE3-9ED9-7EF0B0B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5AD8EC-5ECE-4B9A-A0B3-F15CADE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611F-B62C-44BF-B69D-B1BE8440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9EAB73-2368-425E-B160-628BDED2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E96758-F149-4912-A93D-5A599122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EA04F9-0AE4-469C-BED4-F09AA6B3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CE628-1355-426F-B33E-AE565BB1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E0268-14BF-467F-ADF2-385EB611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F7062-9138-4DF2-82DC-76C3DCDB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0614AD-4DAF-4204-A307-6264A6C0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9CE84-2C16-4515-8542-D4F9D0F7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E94B1-4294-49D2-8EBB-BD3CD1CF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DCB14-E5B9-4C2D-B443-5D7B47E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A0E5-4B0E-4C93-A5E4-CA4F22DB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8B889-8D97-48DC-BABF-FAFA7B26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DF7D6-944B-4EBC-A286-6ED9FFE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AA6E4-F290-4028-A26D-1B1CE772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110A5-5F86-45EC-9AAB-247451DC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B7AA2-383A-45D4-AC76-A7ECD6D8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5F08EE-6E66-4454-BE6C-7D80B2A0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EDC930-BDDC-4C88-A41B-A5B0018B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156A20-32EB-4EC7-A901-12CA8378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DF4ECD-78FF-4710-A771-97412757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8F1522-BBD6-4F3C-87A2-470C6572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65EA-E029-4515-829A-0FBBAE2A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907BBE-C3D7-4630-9C77-B07B7A11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9D4A6F-41D1-4B88-AC9F-6A42D70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070417-463F-4B24-A300-C002C4FC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596002-80DF-4680-930B-66B527B2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BF79CA-DF50-4774-9DF0-77A2A5E1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5E9FAB-AB0F-469C-8FCA-B72C3F29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30FB86-456D-45ED-BD2C-6A20A6EB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8F5C8C-EC42-4BC1-A436-B1804C5C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16075B-19A7-434E-947D-DF72DF8C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4597E3-E0A6-4CA2-A798-22ED0DDA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5D18-47A8-4CD3-8F9D-1F416FE5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110254-E83A-4FF0-8B53-83DD8849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747BA0-B08F-4EE5-8266-B3C03C67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99810A-AB48-40E4-995B-D0B86ECB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51927B-1FB9-46E6-A138-159D534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82C21C-C241-40B0-A55A-0889C65B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A31D70-2691-43EE-97CF-4C3A649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AEDE93-20CB-492D-8FE4-AF126C6F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F0F86A-2BA8-4477-9D77-1FAB5529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B12E68-D8E8-4674-B1BD-2EAF8EDB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058DC8-A460-489D-8453-10F3E356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99F4-45C3-46F0-A6BA-4225E9E5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4D15AB-2A01-4346-B3EF-6D2047CC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1DF5F3-AAF0-4377-89CF-247F23AD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B8CFB8-05A6-4742-9CA6-D16D0588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B6DEA1-6F2D-4F59-A9AB-531A923A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2D68726-FAB7-4ABA-AC11-5E8EBE55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F86232-1185-4E06-BF64-2957EC65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C97C91-164D-4CA5-8EA4-C1BA3E00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21B775-9131-4BA6-BA73-9CEE2259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3F8F25-97FA-4409-9E90-AF68DEE5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4FBF67-44EC-4C71-81BC-49EB09E1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4CDE-D086-43C5-8D05-2A86580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823D6E-5236-4413-9F7A-83C4ED93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E69DEB-017F-4B9E-B8F4-9BB3260D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657322-CA78-4D5F-B1B1-5BEE70C5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97C0D6-1B4D-4FE2-9A8B-0115BC87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26FEF6-B7C4-491F-8C3A-6C68AE85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909F11-D984-4941-958D-73CD1EEB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AAF8BF-913C-46D7-AB73-3B513EB4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394059-B0A5-4196-8B57-1031672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06DD83-3865-4F55-AEC9-0468E9CB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1110E5-00D6-48C1-B2FB-529B87E8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9582-268E-4783-A833-BA390AB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F22CDE-9932-403F-8400-B6E6FCA3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FFF254-1F82-4DE9-AF5D-49C6FABC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1354AF-3C21-4EA6-ADA2-A6D8536F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7022708-4D0E-4739-B4E7-B928D685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5137AC0-978F-4DC0-AD53-5344C53F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A91D1E-33FB-4248-B1AB-B01FC738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1AD151-44A3-44F7-8A9B-A47E9969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716A0D-0FA2-482A-8FC6-58605D6B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8F71A6B-D55D-4725-B046-43D43F68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053B7C-ED51-4193-AFC5-1D28968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77D-57BD-45AF-A8CC-73787A2E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4E7E-DAF7-49EA-8848-24AB71C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4E96344-14B7-42FA-B4DE-DC819F0B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269ADA-3DE8-4DD4-8344-135901B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24562E7-F13B-44E9-839E-56B4FC8D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F143E80-07BC-48D4-B12B-0F4FBEA7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A9D163-848F-4DD7-B271-455319E9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46C182-D4DB-4EB0-8CE2-2BC15349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F31950-0151-4952-9FF5-4C1090B4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83AD1A-D3EC-402D-8FCE-CC9B1D9C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0D6FAD-5F64-482B-B888-F88D6FF7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66FCF83-10E5-4A16-AD51-FB26A3C0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CE45-E78F-4F57-A7F6-EB9F79A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B1C913-6449-49B8-95D6-B157941F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6A1631-6841-4F0C-89A0-EB81365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E97C829-BD79-4BAB-8DBC-14EEB378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6B2C82-1023-4F24-84C0-EC9CE726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9A6160-20AD-47DB-BE05-C25652D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3FD104-A5D5-4C79-ACE5-DEAB262C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ED57E6-28FB-4ACD-A36C-5AFCC9D3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DFBB0F-3B23-40EC-812A-6556FC0A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8469A6-0930-45FF-9CC4-3B4A570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A62C5A-A3A6-4025-98A1-D45B29A6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C0E0-C4D6-4C87-8D8E-62ADE6E4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C663702-24A9-444A-B65F-D1AD96C1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D42CE6E-B78B-4347-9B5D-F7A72E59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F98839E-A0A1-4AEF-83AD-B5496DBE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E91DB7-721A-498E-80C9-8014B2F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38DD54-7431-4E6C-B97E-E138B114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E2A8ED5-63C3-4C54-B337-A6B59934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754B338-64A4-4501-B3EB-C6D4322B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D218F4-0F24-4036-B794-0B6A7DBB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AAE2635-3D05-4FC1-A9D8-0CDC58C4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C0BD253-3312-4585-8442-F7A222C7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F53C-EDB5-494D-8D40-F82DC050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6F4D3A-F8E7-464F-BE4C-947C4E63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E9B1D58-B841-4801-8807-C408AAA4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5FCC29-56B9-4A8A-8DC2-F4113327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F49F13-082B-4E03-969F-6C6A7BF5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4E3501-D4B1-4117-8894-77D73110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75941A-E452-4431-A36E-7DA0AA7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E43669-FD04-4CDD-AD72-48CA422F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9007E6-B690-417D-8A1B-E56ABABA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13C6C97-4C0F-4FCE-B087-3C61989A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5C6ED7-92D4-4C3B-8587-531CEFDD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777D-A8F2-4C5D-ABFC-17C188B4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2DB1EE-3EB4-4CF9-9F7E-DA37A31B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7D5A9B9-0208-44F7-85B5-2416EE9D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9B70B8-E295-42C2-A95F-78AFBE83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C44696D-5429-445A-97E0-577E8F5F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3FC639B-EA83-4F4D-BE47-7F1F0792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6CD7807-45AB-493E-9200-8FEBE12D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77C8718-81C1-4218-8D2C-9A608D61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8147118-168D-4E2F-9226-57CBA64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4BC4D53-7F52-44E1-9EE5-2762515B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A01A923-648C-43D2-8469-0D2E1C8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AB5245A-3325-492E-BDAB-41179D6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AE37093-BA68-4DF3-A1FB-1FADA18C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AD3068D-C0BC-4C71-9223-CE519A06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CE6665E-E11F-4973-88CB-975B35ED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90AFFAB-D8FA-4BC8-8352-28A084B7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BDE82A2-48D3-4130-85D0-F999455F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3255498-6E56-4EAE-BC32-4A5D508F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8BA6088-8995-4BE2-9CCF-2A326EF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A25C301-2ACF-48EC-A94C-1A04A19C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2D17A7-8347-446B-A7C6-8AB76463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FEC178A-33C7-4060-901D-27CD2973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4CA9979-F99D-4D88-A436-784C37E0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5C5238C-9613-45A9-AAF1-43031F8F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ADC64FE-4F20-43D2-B6D5-1D05AA51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4244E6-3E70-49F0-B562-2C8FB1BA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7D49E5-6965-4D14-A9D5-952A29FA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5B1A36-009B-420D-8A2F-472BAAB8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E7125A2-87A3-43EC-A4F7-E675D479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2DDE2C-C45A-4593-A889-EB98D0D9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35BEEB6-20A8-4475-8CE8-3A8E2550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7E275EA-40A8-4D39-A2B1-D3CE8D7D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93D86F1-3CB2-4C16-989D-C8F8393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AEB36E1-F446-4E3A-AE20-6651FDCC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19CF017-35CE-4F00-960E-02564CD8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D2AB561-71E8-4492-BFD0-AB66BD8E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8B8F3D5-BE2C-4275-B59A-5F48FE1C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7ACAAD6-A1CF-4D09-A325-269E7018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A2F4F05-4D4E-4F5F-AD41-482C8627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31B7206-5CCA-4222-8F0F-0E477D53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1A5C935-8FD1-4293-A515-E6AA9C6C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DC40541-2E29-4F4A-BA18-6930BD7D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4F20437-01B2-4278-A0A7-129C968D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63B2A88-229F-480D-A737-AE8D105E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95706F8-DF34-4F30-8AF7-09B112B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CD45B0B-66BE-4828-B5C4-2542AE96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1053C9-9722-4971-80EE-0CBD5B9F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D1CDAE3-649E-45A2-AD34-5FF32D4B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08DD8E-3DC5-49D8-AD05-FEBF560B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D4BC6F-64AD-4931-B0FF-B31F012A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142B7CB-D2D2-4CD5-8A33-3644A0D4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602E115-7875-4815-9187-F6C152CC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D654A4D-B50F-45D1-817E-1E8FAFD8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9A79733-E54F-4A55-8374-C456B314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263643-1539-4020-A4E4-EAB907FF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DA113D0-805F-4DD8-8CFC-2775DDD6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86DAE9-115A-4606-8BC4-7534CA1F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0468BE9-6431-4881-AADB-95F8F40A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E34D961-8FD7-4BCC-AED0-5D76E525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A14177-1A72-4FA9-8CD3-4B402A57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298D2A1-FAF6-4199-AD20-956EEFC0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0A9-F739-4745-A320-42C70DF7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414447-3CD1-455F-AD8C-FE7518A1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30C3CB1-6E54-4168-93F3-0E1BF4B9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E40DB7E-9397-4FF7-B465-DBA27E3D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58D5AF2-2B10-41AA-AFE4-1C73F863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99E1851-434F-4B2E-A6BD-F09EE39C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C067162-E422-41DD-9DD1-8DF908B5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C5CD6A5-F551-4634-A421-CA0AC37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7E7F9FB-E34F-4E5F-AA3D-9966696B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5110DA3-754E-424D-AC0E-3F42EBC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06CE368-8B07-482C-A1E1-A6316F83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0D672C-8292-4C12-AA34-1041A40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31502A3-F522-4A81-96DB-A1235B21B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72B04BE-088B-4612-A8C6-A38B6A97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9E3F7D9-3B41-4538-A923-0C061B9D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347488-7AC8-4A13-B966-98A34AEA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2DCCFFB-1842-46D9-8E3A-A68A9CBB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EEA34E1-4A14-49D9-886D-C10BC3DC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10E03BF-3CAA-4966-BB15-C3BC3D62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439C0BD-A2BF-4631-8680-DF7DFCB2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B7B7D98-9693-49EC-9DF9-80E30711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E930644-5A59-4805-B274-C7FD218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E2DDC5B-55D1-4C8F-8C0C-BA040CA6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59C99FF-4928-4E91-B1B1-AAFC4244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8E0446A-A317-4C37-9198-C1B39AAD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7373E63-5D88-4E91-A6DE-0FBC0D82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7F0C0-B020-4F64-A67F-3D7C6FEA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D130E-EE1E-4ED4-98BD-08D2DFC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DD7AA8-D286-453B-BB9E-16D69E3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DCE-E10D-4837-A58B-173F873F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1F90C-C8B9-4ABA-A04A-090E2173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59CA9-FCFB-4610-BE79-B625085B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5B537-AF7E-4C31-B0D5-7B71A970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70851-AA96-415F-B946-61D01B03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60D32-F4F3-4609-AC69-67831F95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2F1D9-0841-428C-83DD-30C95FA3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99AE5-ADF9-44D5-967B-E0FE2E22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C2773-0872-4AD6-ABD2-076AAEF3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EFAB2-4C59-40C7-AEF5-69B33A1B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36EFE4-84AE-4836-B062-B13DFF3B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712-89D8-4BA3-94A3-8153F6D8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71F632-D313-4FD1-BDC7-7E4AC38B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D55426-5C6F-456B-B689-BD7DFD84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045589-A25E-4363-822F-BC95BAD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99801A-E4CB-43D1-A300-12C0DB35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8297BF-AB47-48E2-9500-64095631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5A59F8-D616-48E5-A39D-01422D9C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383B46-1041-4096-A3B2-C81985A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DC5DD-619F-46A5-85B7-B253E1E1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5603D1-D928-4B19-8EA9-BA174ABE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3F7DF8-1343-43EA-A8CA-AFBB9C1B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388-9484-467A-BE33-0EC44A55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A00A5-E393-4F37-BE90-4A8A3631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22CC1-9DE6-4B12-AF1D-CD9B3777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F8E57A-01F8-430F-BE73-E46F3ACC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5EEA7B-2064-44C6-9BE1-B3C0A59B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ADBA65-CCA1-47E3-A069-5D637D1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1E95AE-BFBA-4CFD-84B4-5252EC00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56424-F64D-4374-A08F-4283B5F5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E0FA6F-0AA9-4809-9245-662C6D64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C6E392-A3AE-419B-8D88-610855DA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23ADA8-1B31-4ECD-905D-A33955C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C89-1219-45CE-8C04-792327D7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6FC137-7B85-45B5-9779-F29943A1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44B48C-FBD9-49EA-9166-A2839F4C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2B2433-F6E0-498C-95C3-5A28B0ED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E6BCC1-287D-4105-B753-1C70FA67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879517-0AEF-4787-91C2-7FF85A30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BA04E4-338E-4FE6-9C3A-FC1CE300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772FC-286B-4190-BF9C-B88409F1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F9A95B-DC4E-4D3C-A920-1994E25B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D2379D-1213-418E-A71C-E04F4759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57FACD-53B0-4A85-98D3-A7D0228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6D1-018E-45CE-AB6C-3AD25014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E74E7-86FE-4606-BA5B-D87708C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621D69-F561-495B-A002-F4E859B3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E005FD-EB7B-4463-A189-130931CC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185B67-5101-4327-9FE8-BC41F7E5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2A60D0-2E1E-4BE0-B6B4-B1F9AF19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092597-A4A3-4481-9F99-11463D0F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392B75-B489-4F63-B853-05EB3328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5A1384-E420-49F1-9A2F-3925FF0D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56FE23-F226-4BFF-953D-5FF80DC3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70BD5-46A8-4BAA-8400-7C1BFF1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EA4-FF0C-416B-A5C1-FB8B111A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5683C-5349-49A6-9555-88A75DF2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62DA3B-0CDE-470B-A35B-4CB34CC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585D73-EF91-4565-B6CD-9F5ABBBB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EE96BA-8508-4CBA-BC64-30D5164C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123C50-EFA4-459C-BB95-DC2E94D7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28D1CC-B236-4C13-974F-157331D0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26F674-4D2C-4DB9-BD8E-E8A8AB37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155ED-6F67-49E4-806A-713E7CE3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E2950-F4AF-4619-B19E-6404C470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951BFB-BA3E-4A18-84F7-DAB38087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D217-5AF7-4DA0-AE2C-A8F7356E065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393A-D576-4593-B5EB-07020A73BB8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94F-0910-4D0A-8386-629B50A6CBE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C4BA-173A-4903-8160-C8718F2A296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DE58-4346-49C3-AC37-A5EE4F33400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0BE1-7968-4816-A907-EC3C806CBA1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8115-9013-4080-A5F2-2F5C470D34F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19AA-8571-4B0D-8E26-742921C58F7D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4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4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4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B3DD-8748-438F-9D7C-A71714AD057F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5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704D-DA4A-4B83-8A18-E743D89B9376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5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289-974F-49FB-ABF4-C8401DE060E8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BDCD-15A6-4735-AB9B-5D5990A97DDC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4860-C4AF-4773-9A78-B1CA2F7825BC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6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6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2C17-7439-4ECD-9930-BCD40BADF947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46BA-EBB0-4806-A50C-5B02EC7D49CD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dt" idx="6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 type="ftr" idx="6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 type="sldNum" idx="6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71B6-3504-4F5A-AFFC-B7377ECECFA3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7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1FF6-2C92-431F-8D43-03AEB5960D0E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7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7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7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DF17-CF1F-4152-8E17-B8CD155E08AB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745C-6CC0-4A8B-AA61-2648F0D23B20}" type="slidenum">
              <a:rPr b="0" lang="en-CA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dt" idx="77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dt" idx="78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ftr" idx="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sldNum" idx="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E133-955D-49AB-9C63-2B214062C1AA}" type="slidenum"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3AFA-A79E-42C9-A610-12F73E391948}" type="slidenum">
              <a:rPr b="0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5A0A-6C0D-418C-A40D-D0EE8E80AA6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C5C9-A3B2-4E5A-9330-F6E7CB5810D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CBF1-1BF3-4276-94E6-B8B5975C887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1E4B-18AD-4A36-B579-95B868BC0B5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AD26-F41A-40A0-BA6D-E8549318330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5"/>
          <p:cNvSpPr/>
          <p:nvPr/>
        </p:nvSpPr>
        <p:spPr>
          <a:xfrm>
            <a:off x="539640" y="1413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2"/>
          <p:cNvSpPr/>
          <p:nvPr/>
        </p:nvSpPr>
        <p:spPr>
          <a:xfrm>
            <a:off x="4211640" y="765000"/>
            <a:ext cx="4932360" cy="30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Burning Hydroge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87" name="Picture 4" descr="TESTTE"/>
          <p:cNvPicPr/>
          <p:nvPr/>
        </p:nvPicPr>
        <p:blipFill>
          <a:blip r:embed="rId1"/>
          <a:stretch/>
        </p:blipFill>
        <p:spPr>
          <a:xfrm flipH="1" rot="2070600">
            <a:off x="5585760" y="1499400"/>
            <a:ext cx="433440" cy="2325960"/>
          </a:xfrm>
          <a:prstGeom prst="rect">
            <a:avLst/>
          </a:prstGeom>
          <a:ln w="0">
            <a:noFill/>
          </a:ln>
        </p:spPr>
      </p:pic>
      <p:grpSp>
        <p:nvGrpSpPr>
          <p:cNvPr id="1288" name="Group 5"/>
          <p:cNvGrpSpPr/>
          <p:nvPr/>
        </p:nvGrpSpPr>
        <p:grpSpPr>
          <a:xfrm>
            <a:off x="6401160" y="852480"/>
            <a:ext cx="2208240" cy="2111400"/>
            <a:chOff x="6401160" y="852480"/>
            <a:chExt cx="2208240" cy="2111400"/>
          </a:xfrm>
        </p:grpSpPr>
        <p:sp>
          <p:nvSpPr>
            <p:cNvPr id="1289" name="Rectangle 6"/>
            <p:cNvSpPr/>
            <p:nvPr/>
          </p:nvSpPr>
          <p:spPr>
            <a:xfrm rot="2062800">
              <a:off x="6378120" y="2231280"/>
              <a:ext cx="2428920" cy="51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0" name="Freeform 7"/>
            <p:cNvSpPr/>
            <p:nvPr/>
          </p:nvSpPr>
          <p:spPr>
            <a:xfrm>
              <a:off x="6401160" y="852480"/>
              <a:ext cx="338400" cy="734760"/>
            </a:xfrm>
            <a:prstGeom prst="pi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1" name="Freeform 8"/>
            <p:cNvSpPr/>
            <p:nvPr/>
          </p:nvSpPr>
          <p:spPr>
            <a:xfrm>
              <a:off x="6481800" y="1197720"/>
              <a:ext cx="154800" cy="389520"/>
            </a:xfrm>
            <a:prstGeom prst="pi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2" name="Group 9"/>
          <p:cNvGrpSpPr/>
          <p:nvPr/>
        </p:nvGrpSpPr>
        <p:grpSpPr>
          <a:xfrm>
            <a:off x="6378480" y="2436840"/>
            <a:ext cx="1239840" cy="826920"/>
            <a:chOff x="6378480" y="2436840"/>
            <a:chExt cx="1239840" cy="826920"/>
          </a:xfrm>
        </p:grpSpPr>
        <p:sp>
          <p:nvSpPr>
            <p:cNvPr id="1293" name="AutoShape 10"/>
            <p:cNvSpPr/>
            <p:nvPr/>
          </p:nvSpPr>
          <p:spPr>
            <a:xfrm>
              <a:off x="6378480" y="2436840"/>
              <a:ext cx="1239840" cy="826920"/>
            </a:xfrm>
            <a:prstGeom prst="irregularSeal2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4" name="Text Box 11"/>
            <p:cNvSpPr/>
            <p:nvPr/>
          </p:nvSpPr>
          <p:spPr>
            <a:xfrm>
              <a:off x="6481440" y="2695320"/>
              <a:ext cx="9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“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POP”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95" name="Text Box 12"/>
          <p:cNvSpPr/>
          <p:nvPr/>
        </p:nvSpPr>
        <p:spPr>
          <a:xfrm>
            <a:off x="0" y="141300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cc"/>
                </a:solidFill>
                <a:latin typeface="Comic Sans MS"/>
                <a:ea typeface="Arial"/>
              </a:rPr>
              <a:t>Recall the test for hydrog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Text Box 13"/>
          <p:cNvSpPr/>
          <p:nvPr/>
        </p:nvSpPr>
        <p:spPr>
          <a:xfrm>
            <a:off x="0" y="393372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  <a:ea typeface="Arial"/>
              </a:rPr>
              <a:t>The rea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7" name="Text Box 14"/>
          <p:cNvSpPr/>
          <p:nvPr/>
        </p:nvSpPr>
        <p:spPr>
          <a:xfrm>
            <a:off x="395280" y="595152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ydro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8" name="Group 15"/>
          <p:cNvGrpSpPr/>
          <p:nvPr/>
        </p:nvGrpSpPr>
        <p:grpSpPr>
          <a:xfrm>
            <a:off x="2195640" y="4941720"/>
            <a:ext cx="1764000" cy="642960"/>
            <a:chOff x="2195640" y="4941720"/>
            <a:chExt cx="1764000" cy="642960"/>
          </a:xfrm>
        </p:grpSpPr>
        <p:grpSp>
          <p:nvGrpSpPr>
            <p:cNvPr id="1299" name="Group 16"/>
            <p:cNvGrpSpPr/>
            <p:nvPr/>
          </p:nvGrpSpPr>
          <p:grpSpPr>
            <a:xfrm>
              <a:off x="2987640" y="4941720"/>
              <a:ext cx="972000" cy="642960"/>
              <a:chOff x="2987640" y="4941720"/>
              <a:chExt cx="972000" cy="642960"/>
            </a:xfrm>
          </p:grpSpPr>
          <p:grpSp>
            <p:nvGrpSpPr>
              <p:cNvPr id="1300" name="Group 17"/>
              <p:cNvGrpSpPr/>
              <p:nvPr/>
            </p:nvGrpSpPr>
            <p:grpSpPr>
              <a:xfrm>
                <a:off x="3447720" y="5081400"/>
                <a:ext cx="511920" cy="503280"/>
                <a:chOff x="3447720" y="5081400"/>
                <a:chExt cx="511920" cy="503280"/>
              </a:xfrm>
            </p:grpSpPr>
            <p:sp>
              <p:nvSpPr>
                <p:cNvPr id="1301" name="Oval 18"/>
                <p:cNvSpPr/>
                <p:nvPr/>
              </p:nvSpPr>
              <p:spPr>
                <a:xfrm>
                  <a:off x="3456720" y="5081400"/>
                  <a:ext cx="502920" cy="50328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2" name="Text Box 19"/>
                <p:cNvSpPr/>
                <p:nvPr/>
              </p:nvSpPr>
              <p:spPr>
                <a:xfrm>
                  <a:off x="3447720" y="5176800"/>
                  <a:ext cx="502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3" name="Group 20"/>
              <p:cNvGrpSpPr/>
              <p:nvPr/>
            </p:nvGrpSpPr>
            <p:grpSpPr>
              <a:xfrm>
                <a:off x="2987640" y="4941720"/>
                <a:ext cx="511920" cy="503280"/>
                <a:chOff x="2987640" y="4941720"/>
                <a:chExt cx="511920" cy="503280"/>
              </a:xfrm>
            </p:grpSpPr>
            <p:sp>
              <p:nvSpPr>
                <p:cNvPr id="1304" name="Oval 21"/>
                <p:cNvSpPr/>
                <p:nvPr/>
              </p:nvSpPr>
              <p:spPr>
                <a:xfrm>
                  <a:off x="2996640" y="4941720"/>
                  <a:ext cx="502920" cy="50328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05" name="Text Box 22"/>
                <p:cNvSpPr/>
                <p:nvPr/>
              </p:nvSpPr>
              <p:spPr>
                <a:xfrm>
                  <a:off x="2987640" y="5037120"/>
                  <a:ext cx="502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306" name="AutoShape 23"/>
            <p:cNvSpPr/>
            <p:nvPr/>
          </p:nvSpPr>
          <p:spPr>
            <a:xfrm>
              <a:off x="2195640" y="5086440"/>
              <a:ext cx="301320" cy="301320"/>
            </a:xfrm>
            <a:prstGeom prst="plus">
              <a:avLst>
                <a:gd name="adj" fmla="val 36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7" name="Group 24"/>
          <p:cNvGrpSpPr/>
          <p:nvPr/>
        </p:nvGrpSpPr>
        <p:grpSpPr>
          <a:xfrm>
            <a:off x="2124000" y="5951520"/>
            <a:ext cx="2016000" cy="398880"/>
            <a:chOff x="2124000" y="5951520"/>
            <a:chExt cx="2016000" cy="398880"/>
          </a:xfrm>
        </p:grpSpPr>
        <p:sp>
          <p:nvSpPr>
            <p:cNvPr id="1308" name="Text Box 25"/>
            <p:cNvSpPr/>
            <p:nvPr/>
          </p:nvSpPr>
          <p:spPr>
            <a:xfrm>
              <a:off x="2700360" y="59515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Oxygen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9" name="Text Box 26"/>
            <p:cNvSpPr/>
            <p:nvPr/>
          </p:nvSpPr>
          <p:spPr>
            <a:xfrm>
              <a:off x="2124000" y="59515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0" name="Group 27"/>
          <p:cNvGrpSpPr/>
          <p:nvPr/>
        </p:nvGrpSpPr>
        <p:grpSpPr>
          <a:xfrm>
            <a:off x="4211640" y="4583160"/>
            <a:ext cx="2376360" cy="1213920"/>
            <a:chOff x="4211640" y="4583160"/>
            <a:chExt cx="2376360" cy="1213920"/>
          </a:xfrm>
        </p:grpSpPr>
        <p:sp>
          <p:nvSpPr>
            <p:cNvPr id="1311" name="AutoShape 28"/>
            <p:cNvSpPr/>
            <p:nvPr/>
          </p:nvSpPr>
          <p:spPr>
            <a:xfrm>
              <a:off x="4211640" y="5159160"/>
              <a:ext cx="703080" cy="250920"/>
            </a:xfrm>
            <a:prstGeom prst="rightArrow">
              <a:avLst>
                <a:gd name="adj1" fmla="val 50000"/>
                <a:gd name="adj2" fmla="val 7005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12" name="Group 29"/>
            <p:cNvGrpSpPr/>
            <p:nvPr/>
          </p:nvGrpSpPr>
          <p:grpSpPr>
            <a:xfrm>
              <a:off x="5290920" y="4583160"/>
              <a:ext cx="1297080" cy="1213920"/>
              <a:chOff x="5290920" y="4583160"/>
              <a:chExt cx="1297080" cy="1213920"/>
            </a:xfrm>
          </p:grpSpPr>
          <p:grpSp>
            <p:nvGrpSpPr>
              <p:cNvPr id="1313" name="Group 30"/>
              <p:cNvGrpSpPr/>
              <p:nvPr/>
            </p:nvGrpSpPr>
            <p:grpSpPr>
              <a:xfrm>
                <a:off x="5684760" y="4583160"/>
                <a:ext cx="512640" cy="502920"/>
                <a:chOff x="5684760" y="4583160"/>
                <a:chExt cx="512640" cy="502920"/>
              </a:xfrm>
            </p:grpSpPr>
            <p:sp>
              <p:nvSpPr>
                <p:cNvPr id="1314" name="Oval 31"/>
                <p:cNvSpPr/>
                <p:nvPr/>
              </p:nvSpPr>
              <p:spPr>
                <a:xfrm>
                  <a:off x="5694120" y="4583160"/>
                  <a:ext cx="503280" cy="50292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15" name="Text Box 32"/>
                <p:cNvSpPr/>
                <p:nvPr/>
              </p:nvSpPr>
              <p:spPr>
                <a:xfrm>
                  <a:off x="5684760" y="4678200"/>
                  <a:ext cx="503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16" name="Oval 33"/>
              <p:cNvSpPr/>
              <p:nvPr/>
            </p:nvSpPr>
            <p:spPr>
              <a:xfrm>
                <a:off x="5290920" y="4717800"/>
                <a:ext cx="432000" cy="43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7" name="Text Box 34"/>
              <p:cNvSpPr/>
              <p:nvPr/>
            </p:nvSpPr>
            <p:spPr>
              <a:xfrm>
                <a:off x="5324400" y="47271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8" name="Oval 35"/>
              <p:cNvSpPr/>
              <p:nvPr/>
            </p:nvSpPr>
            <p:spPr>
              <a:xfrm>
                <a:off x="6156360" y="478908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9" name="Text Box 36"/>
              <p:cNvSpPr/>
              <p:nvPr/>
            </p:nvSpPr>
            <p:spPr>
              <a:xfrm>
                <a:off x="6189480" y="47988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20" name="Group 37"/>
              <p:cNvGrpSpPr/>
              <p:nvPr/>
            </p:nvGrpSpPr>
            <p:grpSpPr>
              <a:xfrm>
                <a:off x="5684760" y="5159160"/>
                <a:ext cx="512640" cy="502920"/>
                <a:chOff x="5684760" y="5159160"/>
                <a:chExt cx="512640" cy="502920"/>
              </a:xfrm>
            </p:grpSpPr>
            <p:sp>
              <p:nvSpPr>
                <p:cNvPr id="1321" name="Oval 38"/>
                <p:cNvSpPr/>
                <p:nvPr/>
              </p:nvSpPr>
              <p:spPr>
                <a:xfrm>
                  <a:off x="5694120" y="5159160"/>
                  <a:ext cx="503280" cy="50292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22" name="Text Box 39"/>
                <p:cNvSpPr/>
                <p:nvPr/>
              </p:nvSpPr>
              <p:spPr>
                <a:xfrm>
                  <a:off x="5684760" y="5254200"/>
                  <a:ext cx="503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O</a:t>
                  </a:r>
                  <a:endParaRPr b="0" lang="en-US" sz="1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323" name="Oval 40"/>
              <p:cNvSpPr/>
              <p:nvPr/>
            </p:nvSpPr>
            <p:spPr>
              <a:xfrm>
                <a:off x="5290920" y="5294160"/>
                <a:ext cx="432000" cy="43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4" name="Text Box 41"/>
              <p:cNvSpPr/>
              <p:nvPr/>
            </p:nvSpPr>
            <p:spPr>
              <a:xfrm>
                <a:off x="5324400" y="530352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5" name="Oval 42"/>
              <p:cNvSpPr/>
              <p:nvPr/>
            </p:nvSpPr>
            <p:spPr>
              <a:xfrm>
                <a:off x="6156360" y="536544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6" name="Text Box 43"/>
              <p:cNvSpPr/>
              <p:nvPr/>
            </p:nvSpPr>
            <p:spPr>
              <a:xfrm>
                <a:off x="6189480" y="53751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327" name="Group 44"/>
          <p:cNvGrpSpPr/>
          <p:nvPr/>
        </p:nvGrpSpPr>
        <p:grpSpPr>
          <a:xfrm>
            <a:off x="4211640" y="5951520"/>
            <a:ext cx="2336760" cy="398880"/>
            <a:chOff x="4211640" y="5951520"/>
            <a:chExt cx="2336760" cy="398880"/>
          </a:xfrm>
        </p:grpSpPr>
        <p:sp>
          <p:nvSpPr>
            <p:cNvPr id="1328" name="Text Box 45"/>
            <p:cNvSpPr/>
            <p:nvPr/>
          </p:nvSpPr>
          <p:spPr>
            <a:xfrm>
              <a:off x="5108400" y="595152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9" name="Line 46"/>
            <p:cNvSpPr/>
            <p:nvPr/>
          </p:nvSpPr>
          <p:spPr>
            <a:xfrm>
              <a:off x="4211640" y="6167520"/>
              <a:ext cx="718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30" name="Group 47"/>
          <p:cNvGrpSpPr/>
          <p:nvPr/>
        </p:nvGrpSpPr>
        <p:grpSpPr>
          <a:xfrm>
            <a:off x="755640" y="4789440"/>
            <a:ext cx="830160" cy="1017360"/>
            <a:chOff x="755640" y="4789440"/>
            <a:chExt cx="830160" cy="1017360"/>
          </a:xfrm>
        </p:grpSpPr>
        <p:sp>
          <p:nvSpPr>
            <p:cNvPr id="1331" name="Oval 48"/>
            <p:cNvSpPr/>
            <p:nvPr/>
          </p:nvSpPr>
          <p:spPr>
            <a:xfrm>
              <a:off x="1154160" y="478944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2" name="Text Box 49"/>
            <p:cNvSpPr/>
            <p:nvPr/>
          </p:nvSpPr>
          <p:spPr>
            <a:xfrm>
              <a:off x="1187280" y="4798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3" name="Group 50"/>
            <p:cNvGrpSpPr/>
            <p:nvPr/>
          </p:nvGrpSpPr>
          <p:grpSpPr>
            <a:xfrm>
              <a:off x="755640" y="4798800"/>
              <a:ext cx="431640" cy="431640"/>
              <a:chOff x="755640" y="4798800"/>
              <a:chExt cx="431640" cy="431640"/>
            </a:xfrm>
          </p:grpSpPr>
          <p:sp>
            <p:nvSpPr>
              <p:cNvPr id="1334" name="Oval 51"/>
              <p:cNvSpPr/>
              <p:nvPr/>
            </p:nvSpPr>
            <p:spPr>
              <a:xfrm>
                <a:off x="755640" y="479880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5" name="Text Box 52"/>
              <p:cNvSpPr/>
              <p:nvPr/>
            </p:nvSpPr>
            <p:spPr>
              <a:xfrm>
                <a:off x="788760" y="480816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36" name="Oval 53"/>
            <p:cNvSpPr/>
            <p:nvPr/>
          </p:nvSpPr>
          <p:spPr>
            <a:xfrm>
              <a:off x="1154160" y="5365800"/>
              <a:ext cx="43164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7" name="Text Box 54"/>
            <p:cNvSpPr/>
            <p:nvPr/>
          </p:nvSpPr>
          <p:spPr>
            <a:xfrm>
              <a:off x="1187280" y="53751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8" name="Group 55"/>
            <p:cNvGrpSpPr/>
            <p:nvPr/>
          </p:nvGrpSpPr>
          <p:grpSpPr>
            <a:xfrm>
              <a:off x="755640" y="5375160"/>
              <a:ext cx="431640" cy="431640"/>
              <a:chOff x="755640" y="5375160"/>
              <a:chExt cx="431640" cy="431640"/>
            </a:xfrm>
          </p:grpSpPr>
          <p:sp>
            <p:nvSpPr>
              <p:cNvPr id="1339" name="Oval 56"/>
              <p:cNvSpPr/>
              <p:nvPr/>
            </p:nvSpPr>
            <p:spPr>
              <a:xfrm>
                <a:off x="755640" y="5375160"/>
                <a:ext cx="431640" cy="43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0" name="Text Box 57"/>
              <p:cNvSpPr/>
              <p:nvPr/>
            </p:nvSpPr>
            <p:spPr>
              <a:xfrm>
                <a:off x="788760" y="53845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mic Sans MS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41" name="Text Box 58"/>
          <p:cNvSpPr/>
          <p:nvPr/>
        </p:nvSpPr>
        <p:spPr>
          <a:xfrm>
            <a:off x="7093080" y="4581360"/>
            <a:ext cx="2050920" cy="228852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tice that no carbon dioxide or carbon monoxide is produced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Gas Tests 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0" y="1052640"/>
            <a:ext cx="914400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ow would you test for the following g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f a glowing splint relights when placed in the test tube the gas is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y the pop test, place a flaming splint by the test tube mouth will ignite the hydrogen gas causing a p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Carbon di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ubble the gas through limewater (Ca(OH)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the solution will turn  cloudy or milky (this is because a solid of CaC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forms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Line 4"/>
          <p:cNvSpPr/>
          <p:nvPr/>
        </p:nvSpPr>
        <p:spPr>
          <a:xfrm>
            <a:off x="4211640" y="11350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5" name="Rectangle 7"/>
          <p:cNvSpPr/>
          <p:nvPr/>
        </p:nvSpPr>
        <p:spPr>
          <a:xfrm>
            <a:off x="770040" y="270720"/>
            <a:ext cx="311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219320"/>
                <a:tab algn="l" pos="1371600"/>
                <a:tab algn="l" pos="144792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ortant rea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219320"/>
                <a:tab algn="l" pos="1371600"/>
                <a:tab algn="l" pos="144792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Rectangle 8"/>
          <p:cNvSpPr/>
          <p:nvPr/>
        </p:nvSpPr>
        <p:spPr>
          <a:xfrm>
            <a:off x="0" y="846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)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ID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AL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Rectangle 10"/>
          <p:cNvSpPr/>
          <p:nvPr/>
        </p:nvSpPr>
        <p:spPr>
          <a:xfrm>
            <a:off x="732960" y="3074040"/>
            <a:ext cx="274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b)  Metal + wate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Line 12"/>
          <p:cNvSpPr/>
          <p:nvPr/>
        </p:nvSpPr>
        <p:spPr>
          <a:xfrm>
            <a:off x="3429000" y="371484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Line 13"/>
          <p:cNvSpPr/>
          <p:nvPr/>
        </p:nvSpPr>
        <p:spPr>
          <a:xfrm>
            <a:off x="3780000" y="23590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Text Box 14"/>
          <p:cNvSpPr/>
          <p:nvPr/>
        </p:nvSpPr>
        <p:spPr>
          <a:xfrm>
            <a:off x="857160" y="15001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n balanced example of an acid/metal reaction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Text Box 16"/>
          <p:cNvSpPr/>
          <p:nvPr/>
        </p:nvSpPr>
        <p:spPr>
          <a:xfrm>
            <a:off x="755640" y="4149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An example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Line 17"/>
          <p:cNvSpPr/>
          <p:nvPr/>
        </p:nvSpPr>
        <p:spPr>
          <a:xfrm>
            <a:off x="3143160" y="500076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3" name="Text Box 18"/>
          <p:cNvSpPr/>
          <p:nvPr/>
        </p:nvSpPr>
        <p:spPr>
          <a:xfrm>
            <a:off x="755640" y="214308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Mg +  2HCl                MgCl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4" name="Text Box 19"/>
          <p:cNvSpPr/>
          <p:nvPr/>
        </p:nvSpPr>
        <p:spPr>
          <a:xfrm>
            <a:off x="4932360" y="77472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l salt +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5" name="Text Box 20"/>
          <p:cNvSpPr/>
          <p:nvPr/>
        </p:nvSpPr>
        <p:spPr>
          <a:xfrm>
            <a:off x="4143240" y="350028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Metal hydroxide +  hydrogen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6" name="Text Box 21"/>
          <p:cNvSpPr/>
          <p:nvPr/>
        </p:nvSpPr>
        <p:spPr>
          <a:xfrm>
            <a:off x="0" y="471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Sodium +   water           sodium hydroxide  +   hydrogen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Line 4"/>
          <p:cNvSpPr/>
          <p:nvPr/>
        </p:nvSpPr>
        <p:spPr>
          <a:xfrm>
            <a:off x="3780000" y="105264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8" name="Rectangle 8"/>
          <p:cNvSpPr/>
          <p:nvPr/>
        </p:nvSpPr>
        <p:spPr>
          <a:xfrm>
            <a:off x="0" y="8398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)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tal carbonate + ACID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9" name="Rectangle 10"/>
          <p:cNvSpPr/>
          <p:nvPr/>
        </p:nvSpPr>
        <p:spPr>
          <a:xfrm>
            <a:off x="0" y="242316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lcium carbonat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3995640" y="278136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3780000" y="49402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0" y="40813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the balanced formula equation 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Text Box 18"/>
          <p:cNvSpPr/>
          <p:nvPr/>
        </p:nvSpPr>
        <p:spPr>
          <a:xfrm>
            <a:off x="755640" y="472428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CaC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3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+  2HCl           CaCl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  +   CO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+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4140360" y="836640"/>
            <a:ext cx="50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Metal salt + carbon dioxide +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5" name="Rectangle 14"/>
          <p:cNvSpPr/>
          <p:nvPr/>
        </p:nvSpPr>
        <p:spPr>
          <a:xfrm>
            <a:off x="1506960" y="2421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6" name="Rectangle 15"/>
          <p:cNvSpPr/>
          <p:nvPr/>
        </p:nvSpPr>
        <p:spPr>
          <a:xfrm>
            <a:off x="4500720" y="2421000"/>
            <a:ext cx="127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lcium chlor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7" name="Rectangle 16"/>
          <p:cNvSpPr/>
          <p:nvPr/>
        </p:nvSpPr>
        <p:spPr>
          <a:xfrm>
            <a:off x="6408000" y="2421000"/>
            <a:ext cx="13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rb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iox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8" name="Rectangle 17"/>
          <p:cNvSpPr/>
          <p:nvPr/>
        </p:nvSpPr>
        <p:spPr>
          <a:xfrm>
            <a:off x="8003160" y="26370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9" name="Rectangle 18"/>
          <p:cNvSpPr/>
          <p:nvPr/>
        </p:nvSpPr>
        <p:spPr>
          <a:xfrm>
            <a:off x="5898600" y="2565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0" name="Rectangle 19"/>
          <p:cNvSpPr/>
          <p:nvPr/>
        </p:nvSpPr>
        <p:spPr>
          <a:xfrm>
            <a:off x="7502760" y="2565360"/>
            <a:ext cx="5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1" name="Rectangle 10"/>
          <p:cNvSpPr/>
          <p:nvPr/>
        </p:nvSpPr>
        <p:spPr>
          <a:xfrm>
            <a:off x="1835280" y="242316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ydrochloric aci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2" name="Text Box 14"/>
          <p:cNvSpPr/>
          <p:nvPr/>
        </p:nvSpPr>
        <p:spPr>
          <a:xfrm>
            <a:off x="0" y="1916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An example word equation is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0" y="0"/>
            <a:ext cx="942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Important</a:t>
            </a:r>
            <a:r>
              <a:rPr b="0" lang="en-NZ" sz="44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 reactions you must know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Text Box 8"/>
          <p:cNvSpPr/>
          <p:nvPr/>
        </p:nvSpPr>
        <p:spPr>
          <a:xfrm>
            <a:off x="714240" y="2000160"/>
            <a:ext cx="914400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l + oxygen                metal 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Word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Magnesium +oxygen         magnesium ox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Formula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2Mg + O</a:t>
            </a:r>
            <a:r>
              <a:rPr b="0" lang="en-NZ" sz="28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5" name="Line 9"/>
          <p:cNvSpPr/>
          <p:nvPr/>
        </p:nvSpPr>
        <p:spPr>
          <a:xfrm>
            <a:off x="2928960" y="47862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6" name="Text Box 11"/>
          <p:cNvSpPr/>
          <p:nvPr/>
        </p:nvSpPr>
        <p:spPr>
          <a:xfrm>
            <a:off x="4307760" y="450072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2M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0" y="500040"/>
            <a:ext cx="88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Important reactions you must know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8" name="Line 15"/>
          <p:cNvSpPr/>
          <p:nvPr/>
        </p:nvSpPr>
        <p:spPr>
          <a:xfrm>
            <a:off x="3929040" y="2286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9" name="Line 15"/>
          <p:cNvSpPr/>
          <p:nvPr/>
        </p:nvSpPr>
        <p:spPr>
          <a:xfrm>
            <a:off x="4214880" y="35719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Text Box 8"/>
          <p:cNvSpPr/>
          <p:nvPr/>
        </p:nvSpPr>
        <p:spPr>
          <a:xfrm>
            <a:off x="0" y="7858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Word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odium  + water       sodium hydroxide +hydrogen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Formu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1" name="Line 9"/>
          <p:cNvSpPr/>
          <p:nvPr/>
        </p:nvSpPr>
        <p:spPr>
          <a:xfrm>
            <a:off x="3143160" y="414324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2" name="Text Box 13"/>
          <p:cNvSpPr/>
          <p:nvPr/>
        </p:nvSpPr>
        <p:spPr>
          <a:xfrm>
            <a:off x="4500720" y="3929040"/>
            <a:ext cx="324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2NaOH   +  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3" name="Text Box 4"/>
          <p:cNvSpPr/>
          <p:nvPr/>
        </p:nvSpPr>
        <p:spPr>
          <a:xfrm>
            <a:off x="0" y="500040"/>
            <a:ext cx="942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Important</a:t>
            </a:r>
            <a:r>
              <a:rPr b="0" lang="en-NZ" sz="44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 reactions you must know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4" name="Line 15"/>
          <p:cNvSpPr/>
          <p:nvPr/>
        </p:nvSpPr>
        <p:spPr>
          <a:xfrm>
            <a:off x="3000240" y="16430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5" name="Line 15"/>
          <p:cNvSpPr/>
          <p:nvPr/>
        </p:nvSpPr>
        <p:spPr>
          <a:xfrm>
            <a:off x="3000240" y="30002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Rectangle 10"/>
          <p:cNvSpPr/>
          <p:nvPr/>
        </p:nvSpPr>
        <p:spPr>
          <a:xfrm>
            <a:off x="0" y="3929040"/>
            <a:ext cx="312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Eg    2Na  + 2H</a:t>
            </a:r>
            <a:r>
              <a:rPr b="0" lang="en-NZ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Rectangle 11"/>
          <p:cNvSpPr/>
          <p:nvPr/>
        </p:nvSpPr>
        <p:spPr>
          <a:xfrm>
            <a:off x="285840" y="135720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l  + water         metal hydroxide + hydrogen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8" name="TextBox 15"/>
          <p:cNvSpPr/>
          <p:nvPr/>
        </p:nvSpPr>
        <p:spPr>
          <a:xfrm>
            <a:off x="0" y="4786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How could you test for the hydrogen ga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9" name="Rectangle 16"/>
          <p:cNvSpPr/>
          <p:nvPr/>
        </p:nvSpPr>
        <p:spPr>
          <a:xfrm>
            <a:off x="642960" y="542916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Tahoma"/>
              </a:rPr>
              <a:t>Remember to go over you material flip car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0" name=""/>
          <p:cNvGraphicFramePr/>
          <p:nvPr/>
        </p:nvGraphicFramePr>
        <p:xfrm>
          <a:off x="285840" y="1214280"/>
          <a:ext cx="8675640" cy="822600"/>
        </p:xfrm>
        <a:graphic>
          <a:graphicData uri="http://schemas.openxmlformats.org/drawingml/2006/table">
            <a:tbl>
              <a:tblPr/>
              <a:tblGrid>
                <a:gridCol w="714240"/>
                <a:gridCol w="525600"/>
                <a:gridCol w="619200"/>
                <a:gridCol w="618840"/>
                <a:gridCol w="621000"/>
                <a:gridCol w="618840"/>
                <a:gridCol w="621000"/>
                <a:gridCol w="618840"/>
                <a:gridCol w="619200"/>
                <a:gridCol w="620640"/>
                <a:gridCol w="619200"/>
                <a:gridCol w="619200"/>
                <a:gridCol w="620640"/>
                <a:gridCol w="619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7c8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99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66ff33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66cc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6699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66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999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966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9933ff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1" name="Text Box 108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is is the pH scale –it is a measure of how acidic or basic a substance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Text Box 109"/>
          <p:cNvSpPr/>
          <p:nvPr/>
        </p:nvSpPr>
        <p:spPr>
          <a:xfrm>
            <a:off x="0" y="2749680"/>
            <a:ext cx="961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would be the pH of the following and the colour in universal indic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ulfur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NaO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Vineg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Dishwashing detergent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tomach acid (HC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Text Box 110"/>
          <p:cNvSpPr/>
          <p:nvPr/>
        </p:nvSpPr>
        <p:spPr>
          <a:xfrm>
            <a:off x="3616200" y="276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Text Box 111"/>
          <p:cNvSpPr/>
          <p:nvPr/>
        </p:nvSpPr>
        <p:spPr>
          <a:xfrm>
            <a:off x="2411280" y="33973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Text Box 113"/>
          <p:cNvSpPr/>
          <p:nvPr/>
        </p:nvSpPr>
        <p:spPr>
          <a:xfrm>
            <a:off x="2700360" y="36860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1                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Text Box 114"/>
          <p:cNvSpPr/>
          <p:nvPr/>
        </p:nvSpPr>
        <p:spPr>
          <a:xfrm>
            <a:off x="2556000" y="41893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14              violet/pur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Text Box 115"/>
          <p:cNvSpPr/>
          <p:nvPr/>
        </p:nvSpPr>
        <p:spPr>
          <a:xfrm>
            <a:off x="3564000" y="46213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3-5            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Text Box 116"/>
          <p:cNvSpPr/>
          <p:nvPr/>
        </p:nvSpPr>
        <p:spPr>
          <a:xfrm>
            <a:off x="3564000" y="51973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 7                g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9" name="Text Box 117"/>
          <p:cNvSpPr/>
          <p:nvPr/>
        </p:nvSpPr>
        <p:spPr>
          <a:xfrm>
            <a:off x="3348000" y="58467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10 - 12       blue/viol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Text Box 118"/>
          <p:cNvSpPr/>
          <p:nvPr/>
        </p:nvSpPr>
        <p:spPr>
          <a:xfrm>
            <a:off x="3276720" y="62974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pH 1-2             red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TextBox 12"/>
          <p:cNvSpPr/>
          <p:nvPr/>
        </p:nvSpPr>
        <p:spPr>
          <a:xfrm>
            <a:off x="28584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Aci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2" name="TextBox 13"/>
          <p:cNvSpPr/>
          <p:nvPr/>
        </p:nvSpPr>
        <p:spPr>
          <a:xfrm>
            <a:off x="8286840" y="21430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3" name="TextBox 14"/>
          <p:cNvSpPr/>
          <p:nvPr/>
        </p:nvSpPr>
        <p:spPr>
          <a:xfrm>
            <a:off x="3857760" y="2143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Neut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Line 4"/>
          <p:cNvSpPr/>
          <p:nvPr/>
        </p:nvSpPr>
        <p:spPr>
          <a:xfrm>
            <a:off x="4211640" y="24210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Rectangle 8"/>
          <p:cNvSpPr/>
          <p:nvPr/>
        </p:nvSpPr>
        <p:spPr>
          <a:xfrm>
            <a:off x="0" y="213588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)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ID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se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1143000"/>
                <a:tab algn="l" pos="1371600"/>
                <a:tab algn="l" pos="1600200"/>
                <a:tab algn="l" pos="2362320"/>
                <a:tab algn="l" pos="2971800"/>
                <a:tab algn="l" pos="3124080"/>
                <a:tab algn="l" pos="4419720"/>
                <a:tab algn="l" pos="6019920"/>
                <a:tab algn="l" pos="6172200"/>
                <a:tab algn="l" pos="6354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6" name="Line 13"/>
          <p:cNvSpPr/>
          <p:nvPr/>
        </p:nvSpPr>
        <p:spPr>
          <a:xfrm>
            <a:off x="3780000" y="364500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Text Box 14"/>
          <p:cNvSpPr/>
          <p:nvPr/>
        </p:nvSpPr>
        <p:spPr>
          <a:xfrm>
            <a:off x="857160" y="27860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n balanced example of an acid/base reaction 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Text Box 18"/>
          <p:cNvSpPr/>
          <p:nvPr/>
        </p:nvSpPr>
        <p:spPr>
          <a:xfrm>
            <a:off x="755640" y="3429000"/>
            <a:ext cx="70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HCl +  NaO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             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NaCl    +  H</a:t>
            </a:r>
            <a:r>
              <a:rPr b="0" lang="en-NZ" sz="28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Text Box 19"/>
          <p:cNvSpPr/>
          <p:nvPr/>
        </p:nvSpPr>
        <p:spPr>
          <a:xfrm>
            <a:off x="4932360" y="2060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alt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Text Box 4"/>
          <p:cNvSpPr/>
          <p:nvPr/>
        </p:nvSpPr>
        <p:spPr>
          <a:xfrm>
            <a:off x="0" y="0"/>
            <a:ext cx="942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Important</a:t>
            </a:r>
            <a:r>
              <a:rPr b="0" lang="en-NZ" sz="4400" spc="-1" strike="noStrike">
                <a:solidFill>
                  <a:srgbClr val="ffff00"/>
                </a:solidFill>
                <a:latin typeface="Adobe Heiti Std R"/>
                <a:ea typeface="Adobe Heiti Std R"/>
              </a:rPr>
              <a:t> reactions you must know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TextBox 15"/>
          <p:cNvSpPr/>
          <p:nvPr/>
        </p:nvSpPr>
        <p:spPr>
          <a:xfrm>
            <a:off x="285840" y="785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Tahoma"/>
              </a:rPr>
              <a:t>Neutralisation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– where an acid and a base react to form a neutral solution with a pH of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TextBox 16"/>
          <p:cNvSpPr/>
          <p:nvPr/>
        </p:nvSpPr>
        <p:spPr>
          <a:xfrm>
            <a:off x="857160" y="471492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colour do you think the solution would  go with universal indicato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TextBox 17"/>
          <p:cNvSpPr/>
          <p:nvPr/>
        </p:nvSpPr>
        <p:spPr>
          <a:xfrm>
            <a:off x="1500120" y="5929200"/>
            <a:ext cx="5429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You got it – </a:t>
            </a:r>
            <a:r>
              <a:rPr b="0" lang="en-NZ" sz="2400" spc="-1" strike="noStrike">
                <a:solidFill>
                  <a:srgbClr val="00ff00"/>
                </a:solidFill>
                <a:latin typeface="Tahoma"/>
              </a:rPr>
              <a:t>green</a:t>
            </a: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 as the solution is now neut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4" name=""/>
          <p:cNvGraphicFramePr/>
          <p:nvPr/>
        </p:nvGraphicFramePr>
        <p:xfrm>
          <a:off x="684360" y="1052640"/>
          <a:ext cx="7272360" cy="5400720"/>
        </p:xfrm>
        <a:graphic>
          <a:graphicData uri="http://schemas.openxmlformats.org/drawingml/2006/table">
            <a:tbl>
              <a:tblPr/>
              <a:tblGrid>
                <a:gridCol w="3095640"/>
                <a:gridCol w="1944360"/>
                <a:gridCol w="223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u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ou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ulphur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ithium hydr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LiO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itr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  </a:t>
                      </a: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indow clean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/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ineg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NZ" sz="2800" spc="-1" strike="noStrike" baseline="-30000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NZ" sz="2800" spc="-1" strike="noStrike">
                          <a:solidFill>
                            <a:srgbClr val="66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5" name="Text Box 8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omplete the following table showing what colour each solution will go in universal indic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Text Box 106"/>
          <p:cNvSpPr/>
          <p:nvPr/>
        </p:nvSpPr>
        <p:spPr>
          <a:xfrm>
            <a:off x="4211640" y="2276640"/>
            <a:ext cx="187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H</a:t>
            </a:r>
            <a:r>
              <a:rPr b="0" lang="en-NZ" sz="2400" spc="-1" strike="noStrike" baseline="-25000">
                <a:solidFill>
                  <a:srgbClr val="66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66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7" name="Text Box 107"/>
          <p:cNvSpPr/>
          <p:nvPr/>
        </p:nvSpPr>
        <p:spPr>
          <a:xfrm>
            <a:off x="637236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Text Box 108"/>
          <p:cNvSpPr/>
          <p:nvPr/>
        </p:nvSpPr>
        <p:spPr>
          <a:xfrm>
            <a:off x="572436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Violet/pur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Text Box 109"/>
          <p:cNvSpPr/>
          <p:nvPr/>
        </p:nvSpPr>
        <p:spPr>
          <a:xfrm>
            <a:off x="2268360" y="623736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Text Box 110"/>
          <p:cNvSpPr/>
          <p:nvPr/>
        </p:nvSpPr>
        <p:spPr>
          <a:xfrm>
            <a:off x="4140360" y="4005360"/>
            <a:ext cx="208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HNO</a:t>
            </a:r>
            <a:r>
              <a:rPr b="0" lang="en-NZ" sz="2400" spc="-1" strike="noStrike" baseline="-25000">
                <a:solidFill>
                  <a:srgbClr val="66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Text Box 111"/>
          <p:cNvSpPr/>
          <p:nvPr/>
        </p:nvSpPr>
        <p:spPr>
          <a:xfrm>
            <a:off x="6227640" y="40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Text Box 112"/>
          <p:cNvSpPr/>
          <p:nvPr/>
        </p:nvSpPr>
        <p:spPr>
          <a:xfrm>
            <a:off x="5724360" y="465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Violet/pur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3" name="Text Box 116"/>
          <p:cNvSpPr/>
          <p:nvPr/>
        </p:nvSpPr>
        <p:spPr>
          <a:xfrm>
            <a:off x="3995640" y="5300640"/>
            <a:ext cx="151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CH</a:t>
            </a:r>
            <a:r>
              <a:rPr b="0" lang="en-NZ" sz="2400" spc="-1" strike="noStrike" baseline="-25000">
                <a:solidFill>
                  <a:srgbClr val="66ffff"/>
                </a:solidFill>
                <a:latin typeface="Tahoma"/>
              </a:rPr>
              <a:t>3</a:t>
            </a: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COO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4" name="Text Box 117"/>
          <p:cNvSpPr/>
          <p:nvPr/>
        </p:nvSpPr>
        <p:spPr>
          <a:xfrm>
            <a:off x="6012000" y="5300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Text Box 118"/>
          <p:cNvSpPr/>
          <p:nvPr/>
        </p:nvSpPr>
        <p:spPr>
          <a:xfrm>
            <a:off x="6084720" y="59500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Text Box 4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Define these acid base ter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Text Box 5"/>
          <p:cNvSpPr/>
          <p:nvPr/>
        </p:nvSpPr>
        <p:spPr>
          <a:xfrm>
            <a:off x="324000" y="1125360"/>
            <a:ext cx="8820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base that contains OH ions and dissolves in water </a:t>
            </a: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is called an Alkali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– give an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eg  NaOH, KOH and these have pH of 14 and turn universal indicator pur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pH sc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ccff"/>
                </a:solidFill>
                <a:latin typeface="Tahoma"/>
              </a:rPr>
              <a:t>The scale form 1- 14 that measures how acidic or basic a substance 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71 numbers Q 6 and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4"/>
          <p:cNvSpPr/>
          <p:nvPr/>
        </p:nvSpPr>
        <p:spPr>
          <a:xfrm>
            <a:off x="395280" y="333360"/>
            <a:ext cx="79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How do you collect gas underwat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Read Unit A3 (Acid Reactio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pgs 76 -77 complete Q’s 5, 6 and 8 pg 7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9" name="Text Box 5"/>
          <p:cNvSpPr/>
          <p:nvPr/>
        </p:nvSpPr>
        <p:spPr>
          <a:xfrm>
            <a:off x="395280" y="7858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Read pH in everyday life page 80 – 81 you must know household acids e.g vinegar, citric acid and tartaric aci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Text Box 6"/>
          <p:cNvSpPr/>
          <p:nvPr/>
        </p:nvSpPr>
        <p:spPr>
          <a:xfrm>
            <a:off x="428760" y="3643200"/>
            <a:ext cx="784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Tahoma"/>
              </a:rPr>
              <a:t>You also must know common household 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Tahoma"/>
              </a:rPr>
              <a:t>These are usually common 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household cleaners </a:t>
            </a:r>
            <a:r>
              <a:rPr b="1" lang="en-GB" sz="2400" spc="-1" strike="noStrike">
                <a:solidFill>
                  <a:srgbClr val="66ffff"/>
                </a:solidFill>
                <a:latin typeface="Tahoma"/>
              </a:rPr>
              <a:t>eg  oven cleaner, window cleaner, soa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Text Box 4"/>
          <p:cNvSpPr/>
          <p:nvPr/>
        </p:nvSpPr>
        <p:spPr>
          <a:xfrm>
            <a:off x="395280" y="3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Know the metal properties and uses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read meet the metals page 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Text Box 5"/>
          <p:cNvSpPr/>
          <p:nvPr/>
        </p:nvSpPr>
        <p:spPr>
          <a:xfrm>
            <a:off x="539640" y="1700280"/>
            <a:ext cx="8136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escribe why metals exhibit the following propert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Ductile, Malleable, Strength, condu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Tahoma"/>
              </a:rPr>
              <a:t>Name some metals and their uses eg Aluminium (Al), gold (Au), lead (P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Text Box 4"/>
          <p:cNvSpPr/>
          <p:nvPr/>
        </p:nvSpPr>
        <p:spPr>
          <a:xfrm>
            <a:off x="324000" y="47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Tahoma"/>
              </a:rPr>
              <a:t>Be able to write word equation and balanced equation for the complete combustion of a simple fuel eg methane  pg 9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Text Box 5"/>
          <p:cNvSpPr/>
          <p:nvPr/>
        </p:nvSpPr>
        <p:spPr>
          <a:xfrm>
            <a:off x="250920" y="1989000"/>
            <a:ext cx="8569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ff"/>
                </a:solidFill>
                <a:latin typeface="Tahoma"/>
              </a:rPr>
              <a:t>Know about polymers and what they are made from ie what are their sub uni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ff"/>
                </a:solidFill>
                <a:latin typeface="Tahoma"/>
              </a:rPr>
              <a:t>Name some polymers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natural polymer eg starch is made of many units of 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and man made polymer eg PV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ff"/>
                </a:solidFill>
                <a:latin typeface="Tahoma"/>
              </a:rPr>
              <a:t>read making plastics M4 page 96 - 97 in pathfi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5" name="Rectangle 7"/>
          <p:cNvSpPr/>
          <p:nvPr/>
        </p:nvSpPr>
        <p:spPr>
          <a:xfrm>
            <a:off x="1272960" y="537372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Know the structure of the atom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Text Box 4"/>
          <p:cNvSpPr/>
          <p:nvPr/>
        </p:nvSpPr>
        <p:spPr>
          <a:xfrm>
            <a:off x="428760" y="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66ffff"/>
                </a:solidFill>
                <a:latin typeface="Tahoma"/>
              </a:rPr>
              <a:t>Electric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Text Box 5"/>
          <p:cNvSpPr/>
          <p:nvPr/>
        </p:nvSpPr>
        <p:spPr>
          <a:xfrm>
            <a:off x="0" y="64296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ff"/>
                </a:solidFill>
                <a:latin typeface="Comic Sans MS"/>
              </a:rPr>
              <a:t>Be familiar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Static and current electricity know the difference(page 5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Current and ammeters 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– be able to place ammeters in circu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Voltage and voltmeters 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– be able to place voltmeters in circu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Static vs current electricity </a:t>
            </a: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read E1 pg 52- 53 if you don’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Conductors/ Insulators 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– identify th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ff"/>
                </a:solidFill>
                <a:latin typeface="Comic Sans MS"/>
              </a:rPr>
              <a:t>Series and parallel circuits </a:t>
            </a: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pages 56-57 Q’s 5,6,7,9 pg 5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Be able to use </a:t>
            </a:r>
            <a:r>
              <a:rPr b="1" lang="en-NZ" sz="2400" spc="-1" strike="noStrike">
                <a:solidFill>
                  <a:srgbClr val="66ffff"/>
                </a:solidFill>
                <a:latin typeface="Comic Sans MS"/>
              </a:rPr>
              <a:t>V=IR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 and </a:t>
            </a:r>
            <a:r>
              <a:rPr b="1" lang="en-NZ" sz="2400" spc="-1" strike="noStrike">
                <a:solidFill>
                  <a:srgbClr val="66ffff"/>
                </a:solidFill>
                <a:latin typeface="Comic Sans MS"/>
              </a:rPr>
              <a:t>P=VI</a:t>
            </a: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 look at old electricity test make sure you show all working </a:t>
            </a:r>
            <a:r>
              <a:rPr b="1" lang="en-NZ" sz="2400" spc="-1" strike="noStrike">
                <a:solidFill>
                  <a:srgbClr val="66ffff"/>
                </a:solidFill>
                <a:latin typeface="Comic Sans MS"/>
              </a:rPr>
              <a:t>Q7 &amp; 11 pg 6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Comic Sans MS"/>
              </a:rPr>
              <a:t>Complete Simple component names and symbols </a:t>
            </a: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Q 2 pg 6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1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Fo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Know how to label the forces acting on an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e  </a:t>
            </a: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drag, weight, thrust,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eight (N) and mass (kgs) know what are they and what are they measured in be able to work out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weight (N) 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iven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m(kgs) using Fw = m x 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Label a spanner fulcrum and know how to measure torque using a formula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T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Nm)= </a:t>
            </a: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f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N) x </a:t>
            </a: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(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Know how to work out density (mass/v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Use Distance/ time graphs to describe the motion of an object 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read more from Unit F1 page 37 complete Q 3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5712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Be able to find the speed of an object from a distance time graph </a:t>
            </a:r>
            <a:br>
              <a:rPr sz="4400"/>
            </a:br>
            <a:br>
              <a:rPr sz="4400"/>
            </a:b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By being able to use the method on the next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1" name="Group 6"/>
          <p:cNvGrpSpPr/>
          <p:nvPr/>
        </p:nvGrpSpPr>
        <p:grpSpPr>
          <a:xfrm>
            <a:off x="1332000" y="1197000"/>
            <a:ext cx="5471280" cy="4752720"/>
            <a:chOff x="1332000" y="1197000"/>
            <a:chExt cx="5471280" cy="4752720"/>
          </a:xfrm>
        </p:grpSpPr>
        <p:sp>
          <p:nvSpPr>
            <p:cNvPr id="1442" name="Line 4"/>
            <p:cNvSpPr/>
            <p:nvPr/>
          </p:nvSpPr>
          <p:spPr>
            <a:xfrm flipV="1">
              <a:off x="1332000" y="1197000"/>
              <a:ext cx="0" cy="47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3" name="Line 5"/>
            <p:cNvSpPr/>
            <p:nvPr/>
          </p:nvSpPr>
          <p:spPr>
            <a:xfrm>
              <a:off x="1332000" y="5949720"/>
              <a:ext cx="54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aphicFrame>
        <p:nvGraphicFramePr>
          <p:cNvPr id="1444" name=""/>
          <p:cNvGraphicFramePr/>
          <p:nvPr/>
        </p:nvGraphicFramePr>
        <p:xfrm>
          <a:off x="1332000" y="1341360"/>
          <a:ext cx="5256000" cy="4608720"/>
        </p:xfrm>
        <a:graphic>
          <a:graphicData uri="http://schemas.openxmlformats.org/drawingml/2006/table">
            <a:tbl>
              <a:tblPr/>
              <a:tblGrid>
                <a:gridCol w="527040"/>
                <a:gridCol w="523800"/>
                <a:gridCol w="527040"/>
                <a:gridCol w="523800"/>
                <a:gridCol w="527040"/>
                <a:gridCol w="536760"/>
                <a:gridCol w="512640"/>
                <a:gridCol w="527040"/>
                <a:gridCol w="523800"/>
                <a:gridCol w="5270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5" name="Line 134"/>
          <p:cNvSpPr/>
          <p:nvPr/>
        </p:nvSpPr>
        <p:spPr>
          <a:xfrm flipV="1">
            <a:off x="1332000" y="4220640"/>
            <a:ext cx="2087640" cy="17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6" name="Line 135"/>
          <p:cNvSpPr/>
          <p:nvPr/>
        </p:nvSpPr>
        <p:spPr>
          <a:xfrm flipV="1">
            <a:off x="3419640" y="3068280"/>
            <a:ext cx="3168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Oval 138"/>
          <p:cNvSpPr/>
          <p:nvPr/>
        </p:nvSpPr>
        <p:spPr>
          <a:xfrm>
            <a:off x="6516720" y="29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8" name="Oval 139"/>
          <p:cNvSpPr/>
          <p:nvPr/>
        </p:nvSpPr>
        <p:spPr>
          <a:xfrm>
            <a:off x="334800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9" name="Text Box 381"/>
          <p:cNvSpPr/>
          <p:nvPr/>
        </p:nvSpPr>
        <p:spPr>
          <a:xfrm>
            <a:off x="21240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0" name="Text Box 387"/>
          <p:cNvSpPr/>
          <p:nvPr/>
        </p:nvSpPr>
        <p:spPr>
          <a:xfrm>
            <a:off x="4427640" y="3141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1" name="Text Box 388"/>
          <p:cNvSpPr/>
          <p:nvPr/>
        </p:nvSpPr>
        <p:spPr>
          <a:xfrm>
            <a:off x="1619280" y="5950080"/>
            <a:ext cx="5545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     2     3    4     5     6     7     8     9   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Text Box 390"/>
          <p:cNvSpPr/>
          <p:nvPr/>
        </p:nvSpPr>
        <p:spPr>
          <a:xfrm>
            <a:off x="250920" y="2997360"/>
            <a:ext cx="6840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Text Box 392"/>
          <p:cNvSpPr/>
          <p:nvPr/>
        </p:nvSpPr>
        <p:spPr>
          <a:xfrm>
            <a:off x="826920" y="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inding speed from a distance time grap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4" name="Object 393"/>
              <p:cNvSpPr txBox="1"/>
              <p:nvPr/>
            </p:nvSpPr>
            <p:spPr>
              <a:xfrm>
                <a:off x="1406520" y="476280"/>
                <a:ext cx="59691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speed of section 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hange  in distance</m:t>
                            </m:r>
                            <m:r>
                              <m:t xml:space="preserve">(</m:t>
                            </m:r>
                            <m:r>
                              <m:t xml:space="preserve">Δd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hange in time 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5" name="Text Box 396"/>
          <p:cNvSpPr/>
          <p:nvPr/>
        </p:nvSpPr>
        <p:spPr>
          <a:xfrm flipV="1">
            <a:off x="755640" y="5803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Text Box 397"/>
          <p:cNvSpPr/>
          <p:nvPr/>
        </p:nvSpPr>
        <p:spPr>
          <a:xfrm>
            <a:off x="90000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Text Box 398"/>
          <p:cNvSpPr/>
          <p:nvPr/>
        </p:nvSpPr>
        <p:spPr>
          <a:xfrm>
            <a:off x="900000" y="4581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8" name="Text Box 399"/>
          <p:cNvSpPr/>
          <p:nvPr/>
        </p:nvSpPr>
        <p:spPr>
          <a:xfrm>
            <a:off x="826920" y="400536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9" name="Text Box 400"/>
          <p:cNvSpPr/>
          <p:nvPr/>
        </p:nvSpPr>
        <p:spPr>
          <a:xfrm>
            <a:off x="90000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Text Box 401"/>
          <p:cNvSpPr/>
          <p:nvPr/>
        </p:nvSpPr>
        <p:spPr>
          <a:xfrm>
            <a:off x="684360" y="2852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Text Box 402"/>
          <p:cNvSpPr/>
          <p:nvPr/>
        </p:nvSpPr>
        <p:spPr>
          <a:xfrm>
            <a:off x="900000" y="2349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2" name="Object 404"/>
              <p:cNvSpPr txBox="1"/>
              <p:nvPr/>
            </p:nvSpPr>
            <p:spPr>
              <a:xfrm>
                <a:off x="6732720" y="1484280"/>
                <a:ext cx="21081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ed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d</m:t>
                            </m:r>
                          </m:num>
                          <m:den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 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ed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ed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3" name="Text Box 405"/>
          <p:cNvSpPr/>
          <p:nvPr/>
        </p:nvSpPr>
        <p:spPr>
          <a:xfrm>
            <a:off x="6732720" y="3645000"/>
            <a:ext cx="216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rk out the speed for section 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4" name="Group 418"/>
          <p:cNvGrpSpPr/>
          <p:nvPr/>
        </p:nvGrpSpPr>
        <p:grpSpPr>
          <a:xfrm>
            <a:off x="1547640" y="5516640"/>
            <a:ext cx="1873440" cy="360360"/>
            <a:chOff x="1547640" y="5516640"/>
            <a:chExt cx="1873440" cy="360360"/>
          </a:xfrm>
        </p:grpSpPr>
        <p:sp>
          <p:nvSpPr>
            <p:cNvPr id="1465" name="Line 406"/>
            <p:cNvSpPr/>
            <p:nvPr/>
          </p:nvSpPr>
          <p:spPr>
            <a:xfrm>
              <a:off x="2771640" y="5877000"/>
              <a:ext cx="6494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6" name="AutoShape 407"/>
            <p:cNvSpPr/>
            <p:nvPr/>
          </p:nvSpPr>
          <p:spPr>
            <a:xfrm>
              <a:off x="2195640" y="5516640"/>
              <a:ext cx="215640" cy="288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7" name="Line 410"/>
            <p:cNvSpPr/>
            <p:nvPr/>
          </p:nvSpPr>
          <p:spPr>
            <a:xfrm flipH="1">
              <a:off x="1547640" y="5877000"/>
              <a:ext cx="14400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8" name="Group 416"/>
          <p:cNvGrpSpPr/>
          <p:nvPr/>
        </p:nvGrpSpPr>
        <p:grpSpPr>
          <a:xfrm>
            <a:off x="250920" y="4221000"/>
            <a:ext cx="792000" cy="1729080"/>
            <a:chOff x="250920" y="4221000"/>
            <a:chExt cx="792000" cy="1729080"/>
          </a:xfrm>
        </p:grpSpPr>
        <p:sp>
          <p:nvSpPr>
            <p:cNvPr id="1469" name="Line 411"/>
            <p:cNvSpPr/>
            <p:nvPr/>
          </p:nvSpPr>
          <p:spPr>
            <a:xfrm flipV="1">
              <a:off x="755640" y="4221000"/>
              <a:ext cx="0" cy="1440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0" name="Line 413"/>
            <p:cNvSpPr/>
            <p:nvPr/>
          </p:nvSpPr>
          <p:spPr>
            <a:xfrm>
              <a:off x="755640" y="5516640"/>
              <a:ext cx="0" cy="433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1" name="AutoShape 414"/>
            <p:cNvSpPr/>
            <p:nvPr/>
          </p:nvSpPr>
          <p:spPr>
            <a:xfrm>
              <a:off x="250920" y="4941720"/>
              <a:ext cx="217440" cy="287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2" name="Text Box 415"/>
            <p:cNvSpPr/>
            <p:nvPr/>
          </p:nvSpPr>
          <p:spPr>
            <a:xfrm>
              <a:off x="250920" y="47973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3" name="Text Box 419"/>
          <p:cNvSpPr/>
          <p:nvPr/>
        </p:nvSpPr>
        <p:spPr>
          <a:xfrm>
            <a:off x="2411280" y="53737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Group 2"/>
          <p:cNvGrpSpPr/>
          <p:nvPr/>
        </p:nvGrpSpPr>
        <p:grpSpPr>
          <a:xfrm>
            <a:off x="1258920" y="1197000"/>
            <a:ext cx="5471280" cy="4752720"/>
            <a:chOff x="1258920" y="1197000"/>
            <a:chExt cx="5471280" cy="4752720"/>
          </a:xfrm>
        </p:grpSpPr>
        <p:sp>
          <p:nvSpPr>
            <p:cNvPr id="1475" name="Line 3"/>
            <p:cNvSpPr/>
            <p:nvPr/>
          </p:nvSpPr>
          <p:spPr>
            <a:xfrm flipV="1">
              <a:off x="1258920" y="1197000"/>
              <a:ext cx="0" cy="47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6" name="Line 4"/>
            <p:cNvSpPr/>
            <p:nvPr/>
          </p:nvSpPr>
          <p:spPr>
            <a:xfrm>
              <a:off x="1258920" y="5949720"/>
              <a:ext cx="547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7" name="Line 106"/>
          <p:cNvSpPr/>
          <p:nvPr/>
        </p:nvSpPr>
        <p:spPr>
          <a:xfrm flipV="1">
            <a:off x="1332000" y="4220640"/>
            <a:ext cx="2087640" cy="17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8" name="Line 107"/>
          <p:cNvSpPr/>
          <p:nvPr/>
        </p:nvSpPr>
        <p:spPr>
          <a:xfrm flipV="1">
            <a:off x="3419640" y="3068280"/>
            <a:ext cx="3168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9" name="Oval 108"/>
          <p:cNvSpPr/>
          <p:nvPr/>
        </p:nvSpPr>
        <p:spPr>
          <a:xfrm>
            <a:off x="6516720" y="29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Oval 109"/>
          <p:cNvSpPr/>
          <p:nvPr/>
        </p:nvSpPr>
        <p:spPr>
          <a:xfrm>
            <a:off x="334800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Text Box 110"/>
          <p:cNvSpPr/>
          <p:nvPr/>
        </p:nvSpPr>
        <p:spPr>
          <a:xfrm>
            <a:off x="21240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Text Box 111"/>
          <p:cNvSpPr/>
          <p:nvPr/>
        </p:nvSpPr>
        <p:spPr>
          <a:xfrm>
            <a:off x="4427640" y="3141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3" name="Text Box 112"/>
          <p:cNvSpPr/>
          <p:nvPr/>
        </p:nvSpPr>
        <p:spPr>
          <a:xfrm>
            <a:off x="1619280" y="5950080"/>
            <a:ext cx="554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     2      3    4     5     6     7     8     9   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4" name="Text Box 113"/>
          <p:cNvSpPr/>
          <p:nvPr/>
        </p:nvSpPr>
        <p:spPr>
          <a:xfrm>
            <a:off x="250920" y="2997360"/>
            <a:ext cx="6840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5" name="Text Box 114"/>
          <p:cNvSpPr/>
          <p:nvPr/>
        </p:nvSpPr>
        <p:spPr>
          <a:xfrm>
            <a:off x="826920" y="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inding the average speed of Section 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6" name="Object 115"/>
              <p:cNvSpPr txBox="1"/>
              <p:nvPr/>
            </p:nvSpPr>
            <p:spPr>
              <a:xfrm>
                <a:off x="644400" y="476280"/>
                <a:ext cx="59007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speed of section P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hange  in distance</m:t>
                            </m:r>
                            <m:r>
                              <m:t xml:space="preserve">(</m:t>
                            </m:r>
                            <m:r>
                              <m:t xml:space="preserve">Δd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hange in time 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7" name="Text Box 116"/>
          <p:cNvSpPr/>
          <p:nvPr/>
        </p:nvSpPr>
        <p:spPr>
          <a:xfrm flipV="1">
            <a:off x="755640" y="5803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8" name="Text Box 117"/>
          <p:cNvSpPr/>
          <p:nvPr/>
        </p:nvSpPr>
        <p:spPr>
          <a:xfrm>
            <a:off x="90000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9" name="Text Box 118"/>
          <p:cNvSpPr/>
          <p:nvPr/>
        </p:nvSpPr>
        <p:spPr>
          <a:xfrm>
            <a:off x="900000" y="4581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0" name="Text Box 119"/>
          <p:cNvSpPr/>
          <p:nvPr/>
        </p:nvSpPr>
        <p:spPr>
          <a:xfrm>
            <a:off x="826920" y="4005360"/>
            <a:ext cx="9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1" name="Text Box 120"/>
          <p:cNvSpPr/>
          <p:nvPr/>
        </p:nvSpPr>
        <p:spPr>
          <a:xfrm>
            <a:off x="90000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2" name="Text Box 121"/>
          <p:cNvSpPr/>
          <p:nvPr/>
        </p:nvSpPr>
        <p:spPr>
          <a:xfrm>
            <a:off x="684360" y="2852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3" name="Text Box 122"/>
          <p:cNvSpPr/>
          <p:nvPr/>
        </p:nvSpPr>
        <p:spPr>
          <a:xfrm>
            <a:off x="900000" y="2349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4" name="Line 126"/>
          <p:cNvSpPr/>
          <p:nvPr/>
        </p:nvSpPr>
        <p:spPr>
          <a:xfrm>
            <a:off x="5086440" y="4292640"/>
            <a:ext cx="14716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5" name="AutoShape 127"/>
          <p:cNvSpPr/>
          <p:nvPr/>
        </p:nvSpPr>
        <p:spPr>
          <a:xfrm>
            <a:off x="5076720" y="3860640"/>
            <a:ext cx="273240" cy="34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6" name="Line 128"/>
          <p:cNvSpPr/>
          <p:nvPr/>
        </p:nvSpPr>
        <p:spPr>
          <a:xfrm flipH="1">
            <a:off x="3533400" y="4292640"/>
            <a:ext cx="187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7" name="Line 130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8" name="Line 131"/>
          <p:cNvSpPr/>
          <p:nvPr/>
        </p:nvSpPr>
        <p:spPr>
          <a:xfrm>
            <a:off x="6804000" y="3789360"/>
            <a:ext cx="3240" cy="4334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AutoShape 132"/>
          <p:cNvSpPr/>
          <p:nvPr/>
        </p:nvSpPr>
        <p:spPr>
          <a:xfrm>
            <a:off x="6948360" y="3500280"/>
            <a:ext cx="35892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0" name="Text Box 133"/>
          <p:cNvSpPr/>
          <p:nvPr/>
        </p:nvSpPr>
        <p:spPr>
          <a:xfrm>
            <a:off x="7164360" y="342900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258920" y="1341360"/>
          <a:ext cx="5329080" cy="4606920"/>
        </p:xfrm>
        <a:graphic>
          <a:graphicData uri="http://schemas.openxmlformats.org/drawingml/2006/table">
            <a:tbl>
              <a:tblPr/>
              <a:tblGrid>
                <a:gridCol w="533520"/>
                <a:gridCol w="531720"/>
                <a:gridCol w="533520"/>
                <a:gridCol w="531720"/>
                <a:gridCol w="534960"/>
                <a:gridCol w="503280"/>
                <a:gridCol w="561960"/>
                <a:gridCol w="533160"/>
                <a:gridCol w="53208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2" name="Text Box 509"/>
          <p:cNvSpPr/>
          <p:nvPr/>
        </p:nvSpPr>
        <p:spPr>
          <a:xfrm>
            <a:off x="529272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3" name="Object 511"/>
          <p:cNvGraphicFramePr/>
          <p:nvPr/>
        </p:nvGraphicFramePr>
        <p:xfrm>
          <a:off x="6804000" y="1197000"/>
          <a:ext cx="2087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4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197000"/>
                    <a:ext cx="2087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Text Box 4"/>
          <p:cNvSpPr/>
          <p:nvPr/>
        </p:nvSpPr>
        <p:spPr>
          <a:xfrm>
            <a:off x="539640" y="620640"/>
            <a:ext cx="777744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Hum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re will be some of these body systems in the ex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Text Box 4"/>
          <p:cNvSpPr/>
          <p:nvPr/>
        </p:nvSpPr>
        <p:spPr>
          <a:xfrm>
            <a:off x="684360" y="1844640"/>
            <a:ext cx="69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ake notes on your diagram on the ear and glue it into your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structure of the atom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0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1161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5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Oval 9"/>
          <p:cNvSpPr/>
          <p:nvPr/>
        </p:nvSpPr>
        <p:spPr>
          <a:xfrm>
            <a:off x="1981080" y="4495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Oval 10"/>
          <p:cNvSpPr/>
          <p:nvPr/>
        </p:nvSpPr>
        <p:spPr>
          <a:xfrm>
            <a:off x="6095880" y="2438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AutoShape 11"/>
          <p:cNvSpPr/>
          <p:nvPr/>
        </p:nvSpPr>
        <p:spPr>
          <a:xfrm flipH="1" flipV="1" rot="7200000">
            <a:off x="6361920" y="1713600"/>
            <a:ext cx="1143000" cy="28958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9" name="Group 12"/>
          <p:cNvGrpSpPr/>
          <p:nvPr/>
        </p:nvGrpSpPr>
        <p:grpSpPr>
          <a:xfrm>
            <a:off x="2895480" y="1330200"/>
            <a:ext cx="3176640" cy="1557000"/>
            <a:chOff x="2895480" y="1330200"/>
            <a:chExt cx="3176640" cy="1557000"/>
          </a:xfrm>
        </p:grpSpPr>
        <p:sp>
          <p:nvSpPr>
            <p:cNvPr id="1170" name="AutoShape 13"/>
            <p:cNvSpPr/>
            <p:nvPr/>
          </p:nvSpPr>
          <p:spPr>
            <a:xfrm rot="11700000">
              <a:off x="5028840" y="2057400"/>
              <a:ext cx="990720" cy="533520"/>
            </a:xfrm>
            <a:prstGeom prst="leftArrow">
              <a:avLst>
                <a:gd name="adj1" fmla="val 50000"/>
                <a:gd name="adj2" fmla="val 46424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Text Box 14"/>
            <p:cNvSpPr/>
            <p:nvPr/>
          </p:nvSpPr>
          <p:spPr>
            <a:xfrm>
              <a:off x="2895480" y="1330200"/>
              <a:ext cx="2286000" cy="1557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ELECTRON – negative, mass nearly nothing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2" name="Group 15"/>
          <p:cNvGrpSpPr/>
          <p:nvPr/>
        </p:nvGrpSpPr>
        <p:grpSpPr>
          <a:xfrm>
            <a:off x="4835160" y="3611880"/>
            <a:ext cx="3481920" cy="2058120"/>
            <a:chOff x="4835160" y="3611880"/>
            <a:chExt cx="3481920" cy="2058120"/>
          </a:xfrm>
        </p:grpSpPr>
        <p:sp>
          <p:nvSpPr>
            <p:cNvPr id="1173" name="AutoShape 16"/>
            <p:cNvSpPr/>
            <p:nvPr/>
          </p:nvSpPr>
          <p:spPr>
            <a:xfrm rot="900000">
              <a:off x="4876560" y="380952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Text Box 17"/>
            <p:cNvSpPr/>
            <p:nvPr/>
          </p:nvSpPr>
          <p:spPr>
            <a:xfrm>
              <a:off x="6031080" y="4113000"/>
              <a:ext cx="2286000" cy="155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PROTON – positive, same mass as neutron (“1”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5" name="Group 18"/>
          <p:cNvGrpSpPr/>
          <p:nvPr/>
        </p:nvGrpSpPr>
        <p:grpSpPr>
          <a:xfrm>
            <a:off x="685800" y="3951720"/>
            <a:ext cx="3400920" cy="2481840"/>
            <a:chOff x="685800" y="3951720"/>
            <a:chExt cx="3400920" cy="2481840"/>
          </a:xfrm>
        </p:grpSpPr>
        <p:sp>
          <p:nvSpPr>
            <p:cNvPr id="1176" name="Text Box 19"/>
            <p:cNvSpPr/>
            <p:nvPr/>
          </p:nvSpPr>
          <p:spPr>
            <a:xfrm>
              <a:off x="685800" y="4876560"/>
              <a:ext cx="2286000" cy="1557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NEUTRON – neutral, same mass as proton (“1”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7" name="AutoShape 20"/>
            <p:cNvSpPr/>
            <p:nvPr/>
          </p:nvSpPr>
          <p:spPr>
            <a:xfrm rot="8274000">
              <a:off x="2514240" y="441936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 Box 4"/>
          <p:cNvSpPr/>
          <p:nvPr/>
        </p:nvSpPr>
        <p:spPr>
          <a:xfrm>
            <a:off x="-396720" y="40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Body parts the 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8" name="Picture 5" descr="Simple Ear OHP (u)"/>
          <p:cNvPicPr/>
          <p:nvPr/>
        </p:nvPicPr>
        <p:blipFill>
          <a:blip r:embed="rId1"/>
          <a:stretch/>
        </p:blipFill>
        <p:spPr>
          <a:xfrm>
            <a:off x="0" y="1052640"/>
            <a:ext cx="7129440" cy="5092560"/>
          </a:xfrm>
          <a:prstGeom prst="rect">
            <a:avLst/>
          </a:prstGeom>
          <a:ln w="0">
            <a:noFill/>
          </a:ln>
        </p:spPr>
      </p:pic>
      <p:sp>
        <p:nvSpPr>
          <p:cNvPr id="1509" name="Text Box 6"/>
          <p:cNvSpPr/>
          <p:nvPr/>
        </p:nvSpPr>
        <p:spPr>
          <a:xfrm>
            <a:off x="755640" y="1052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720000"/>
                </a:solidFill>
                <a:latin typeface="Tahoma"/>
              </a:rPr>
              <a:t>Ear ca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Text Box 7"/>
          <p:cNvSpPr/>
          <p:nvPr/>
        </p:nvSpPr>
        <p:spPr>
          <a:xfrm>
            <a:off x="2556000" y="414972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720000"/>
                </a:solidFill>
                <a:latin typeface="Tahoma"/>
              </a:rPr>
              <a:t>Ear d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Text Box 8"/>
          <p:cNvSpPr/>
          <p:nvPr/>
        </p:nvSpPr>
        <p:spPr>
          <a:xfrm>
            <a:off x="3564000" y="4724280"/>
            <a:ext cx="13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720000"/>
                </a:solidFill>
                <a:latin typeface="Tahoma"/>
              </a:rPr>
              <a:t>cochl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Text Box 9"/>
          <p:cNvSpPr/>
          <p:nvPr/>
        </p:nvSpPr>
        <p:spPr>
          <a:xfrm>
            <a:off x="4716360" y="5157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720000"/>
                </a:solidFill>
                <a:latin typeface="Tahoma"/>
              </a:rPr>
              <a:t>Auditory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3" name="Line 10"/>
          <p:cNvSpPr/>
          <p:nvPr/>
        </p:nvSpPr>
        <p:spPr>
          <a:xfrm flipH="1">
            <a:off x="6659640" y="4005360"/>
            <a:ext cx="504720" cy="863640"/>
          </a:xfrm>
          <a:prstGeom prst="line">
            <a:avLst/>
          </a:prstGeom>
          <a:ln w="414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Text Box 11"/>
          <p:cNvSpPr/>
          <p:nvPr/>
        </p:nvSpPr>
        <p:spPr>
          <a:xfrm>
            <a:off x="7093080" y="3284640"/>
            <a:ext cx="2050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Eustach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Tu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Rectangle 12"/>
          <p:cNvSpPr/>
          <p:nvPr/>
        </p:nvSpPr>
        <p:spPr>
          <a:xfrm>
            <a:off x="2639880" y="690840"/>
            <a:ext cx="207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ahoma"/>
              </a:rPr>
              <a:t>Earbones 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ahoma"/>
              </a:rPr>
              <a:t>ossicles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Rectangle 13"/>
          <p:cNvSpPr/>
          <p:nvPr/>
        </p:nvSpPr>
        <p:spPr>
          <a:xfrm>
            <a:off x="4943880" y="258120"/>
            <a:ext cx="3972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ahoma"/>
              </a:rPr>
              <a:t>Semi -circular canals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helps control balanc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detecting movement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ub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Text Box 14"/>
          <p:cNvSpPr/>
          <p:nvPr/>
        </p:nvSpPr>
        <p:spPr>
          <a:xfrm>
            <a:off x="755640" y="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Human 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Text Box 15"/>
          <p:cNvSpPr/>
          <p:nvPr/>
        </p:nvSpPr>
        <p:spPr>
          <a:xfrm>
            <a:off x="900000" y="6165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Make notes on your diagram and glue it into your boo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Text Box 4"/>
          <p:cNvSpPr/>
          <p:nvPr/>
        </p:nvSpPr>
        <p:spPr>
          <a:xfrm>
            <a:off x="395280" y="404640"/>
            <a:ext cx="83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How does the ear he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By detecting vibration from sound waves, these are then changed into electrical impulses which are carried to the br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Text Box 5"/>
          <p:cNvSpPr/>
          <p:nvPr/>
        </p:nvSpPr>
        <p:spPr>
          <a:xfrm>
            <a:off x="611280" y="3068640"/>
            <a:ext cx="777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Read the Sound and Ear section page 28 (Pathfind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Complete question 8 pg 3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1" name="Text Box 6"/>
          <p:cNvSpPr/>
          <p:nvPr/>
        </p:nvSpPr>
        <p:spPr>
          <a:xfrm>
            <a:off x="684360" y="472428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66ffff"/>
                </a:solidFill>
                <a:latin typeface="Tahoma"/>
              </a:rPr>
              <a:t>Know the parts of the 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4"/>
          <p:cNvSpPr/>
          <p:nvPr/>
        </p:nvSpPr>
        <p:spPr>
          <a:xfrm>
            <a:off x="0" y="0"/>
            <a:ext cx="939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Know about capillaries, veins and what’s the other one 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Arteries - these have the highest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Know which ones carry blood where t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What’s so special about capillari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ccff"/>
                </a:solidFill>
                <a:latin typeface="Tahoma"/>
              </a:rPr>
              <a:t>They are small – one cell thick they allow gases to diffuse into and out of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Text Box 5"/>
          <p:cNvSpPr/>
          <p:nvPr/>
        </p:nvSpPr>
        <p:spPr>
          <a:xfrm>
            <a:off x="0" y="4581360"/>
            <a:ext cx="88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Read Pathfinder text :   Read Circulating Materials pg 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                                    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complete Q’s 6, 9 and 10 pg 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Text Box 4"/>
          <p:cNvSpPr/>
          <p:nvPr/>
        </p:nvSpPr>
        <p:spPr>
          <a:xfrm>
            <a:off x="539640" y="404640"/>
            <a:ext cx="7920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Pulse ra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ff"/>
                </a:solidFill>
                <a:latin typeface="Tahoma"/>
              </a:rPr>
              <a:t>Know all about this and what vessels allow you to take the pulse and why. Refer old Humans test and mark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00"/>
                </a:solidFill>
                <a:latin typeface="Tahoma"/>
              </a:rPr>
              <a:t>Know how blood returns to the heart from the body organs via the veins. Refer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Kidneys –what do they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se filter the blood and remove wastes from the b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539640" y="3429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now the muscles in the arm and how the arm works look at your n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The Hear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You must be able to label th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eft at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Right atri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Right ventr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eft ventri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Why does the heart have valv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Name the blood vessels and explain why they are different from each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0" name="Content Placeholder 3" descr="Simple heart (Labeled).jpg"/>
          <p:cNvPicPr/>
          <p:nvPr/>
        </p:nvPicPr>
        <p:blipFill>
          <a:blip r:embed="rId1"/>
          <a:srcRect l="0" t="0" r="0" b="51020"/>
          <a:stretch/>
        </p:blipFill>
        <p:spPr>
          <a:xfrm>
            <a:off x="1278000" y="500040"/>
            <a:ext cx="6508800" cy="5786640"/>
          </a:xfrm>
          <a:prstGeom prst="rect">
            <a:avLst/>
          </a:prstGeom>
          <a:ln w="0">
            <a:noFill/>
          </a:ln>
        </p:spPr>
      </p:pic>
      <p:sp>
        <p:nvSpPr>
          <p:cNvPr id="1531" name="Rectangle 4"/>
          <p:cNvSpPr/>
          <p:nvPr/>
        </p:nvSpPr>
        <p:spPr>
          <a:xfrm>
            <a:off x="1428840" y="642960"/>
            <a:ext cx="22143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Rectangle 5"/>
          <p:cNvSpPr/>
          <p:nvPr/>
        </p:nvSpPr>
        <p:spPr>
          <a:xfrm>
            <a:off x="1285920" y="1714680"/>
            <a:ext cx="22143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Rectangle 6"/>
          <p:cNvSpPr/>
          <p:nvPr/>
        </p:nvSpPr>
        <p:spPr>
          <a:xfrm>
            <a:off x="5357880" y="785880"/>
            <a:ext cx="22143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Rectangle 7"/>
          <p:cNvSpPr/>
          <p:nvPr/>
        </p:nvSpPr>
        <p:spPr>
          <a:xfrm>
            <a:off x="5500800" y="1643040"/>
            <a:ext cx="228600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Rectangle 8"/>
          <p:cNvSpPr/>
          <p:nvPr/>
        </p:nvSpPr>
        <p:spPr>
          <a:xfrm>
            <a:off x="6572160" y="3786120"/>
            <a:ext cx="121464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6" name="Rectangle 9"/>
          <p:cNvSpPr/>
          <p:nvPr/>
        </p:nvSpPr>
        <p:spPr>
          <a:xfrm>
            <a:off x="6286680" y="5214960"/>
            <a:ext cx="121428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Rectangle 10"/>
          <p:cNvSpPr/>
          <p:nvPr/>
        </p:nvSpPr>
        <p:spPr>
          <a:xfrm>
            <a:off x="1428840" y="5214960"/>
            <a:ext cx="121428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8" name="Rectangle 11"/>
          <p:cNvSpPr/>
          <p:nvPr/>
        </p:nvSpPr>
        <p:spPr>
          <a:xfrm>
            <a:off x="1428840" y="3786120"/>
            <a:ext cx="121428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2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2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2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e “Double Circulatory” Syste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540" name="Group 3"/>
          <p:cNvGrpSpPr/>
          <p:nvPr/>
        </p:nvGrpSpPr>
        <p:grpSpPr>
          <a:xfrm>
            <a:off x="0" y="836640"/>
            <a:ext cx="9144000" cy="6021360"/>
            <a:chOff x="0" y="836640"/>
            <a:chExt cx="9144000" cy="6021360"/>
          </a:xfrm>
        </p:grpSpPr>
        <p:sp>
          <p:nvSpPr>
            <p:cNvPr id="1541" name="Rectangle 4"/>
            <p:cNvSpPr/>
            <p:nvPr/>
          </p:nvSpPr>
          <p:spPr>
            <a:xfrm>
              <a:off x="0" y="836640"/>
              <a:ext cx="9144000" cy="602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42" name="Picture 5" descr="Circ system"/>
            <p:cNvPicPr/>
            <p:nvPr/>
          </p:nvPicPr>
          <p:blipFill>
            <a:blip r:embed="rId1"/>
            <a:stretch/>
          </p:blipFill>
          <p:spPr>
            <a:xfrm>
              <a:off x="2217600" y="907920"/>
              <a:ext cx="4146840" cy="59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3" name="Rectangle 6"/>
            <p:cNvSpPr/>
            <p:nvPr/>
          </p:nvSpPr>
          <p:spPr>
            <a:xfrm>
              <a:off x="1763640" y="981000"/>
              <a:ext cx="151308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4" name="Rectangle 7"/>
            <p:cNvSpPr/>
            <p:nvPr/>
          </p:nvSpPr>
          <p:spPr>
            <a:xfrm>
              <a:off x="1619280" y="2276640"/>
              <a:ext cx="151272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5" name="Rectangle 8"/>
            <p:cNvSpPr/>
            <p:nvPr/>
          </p:nvSpPr>
          <p:spPr>
            <a:xfrm>
              <a:off x="5364000" y="907920"/>
              <a:ext cx="151308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5796000" y="1484280"/>
              <a:ext cx="1512720" cy="79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050920" y="4135320"/>
              <a:ext cx="692280" cy="25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916360" y="6597720"/>
              <a:ext cx="1512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2428920" y="5464080"/>
              <a:ext cx="584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0" name="Rectangle 13"/>
            <p:cNvSpPr/>
            <p:nvPr/>
          </p:nvSpPr>
          <p:spPr>
            <a:xfrm>
              <a:off x="6043680" y="3490920"/>
              <a:ext cx="43812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1" name="Rectangle 14"/>
            <p:cNvSpPr/>
            <p:nvPr/>
          </p:nvSpPr>
          <p:spPr>
            <a:xfrm>
              <a:off x="5870520" y="5086440"/>
              <a:ext cx="64152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2" name="Text Box 15"/>
          <p:cNvSpPr/>
          <p:nvPr/>
        </p:nvSpPr>
        <p:spPr>
          <a:xfrm>
            <a:off x="203040" y="987480"/>
            <a:ext cx="29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1.  Deoxygenated blood is pumped from the heart to the lu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3" name="Text Box 16"/>
          <p:cNvSpPr/>
          <p:nvPr/>
        </p:nvSpPr>
        <p:spPr>
          <a:xfrm>
            <a:off x="6167520" y="4876920"/>
            <a:ext cx="297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  The oxygenated blood is then pumped to the rest of the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4" name="Text Box 17"/>
          <p:cNvSpPr/>
          <p:nvPr/>
        </p:nvSpPr>
        <p:spPr>
          <a:xfrm>
            <a:off x="5991120" y="1143000"/>
            <a:ext cx="29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  The blood receives oxygen and is pumped back to the he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5" name="Text Box 18"/>
          <p:cNvSpPr/>
          <p:nvPr/>
        </p:nvSpPr>
        <p:spPr>
          <a:xfrm>
            <a:off x="0" y="4210200"/>
            <a:ext cx="270036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4.  The oxygen leaves the blood to be used for respiration in the body and the blood goes back to the hear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6" name="Oval 19"/>
          <p:cNvSpPr/>
          <p:nvPr/>
        </p:nvSpPr>
        <p:spPr>
          <a:xfrm>
            <a:off x="3905280" y="4165560"/>
            <a:ext cx="377640" cy="37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7" name="Oval 20"/>
          <p:cNvSpPr/>
          <p:nvPr/>
        </p:nvSpPr>
        <p:spPr>
          <a:xfrm>
            <a:off x="4151160" y="1550880"/>
            <a:ext cx="378000" cy="37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8" name="Oval 21"/>
          <p:cNvSpPr/>
          <p:nvPr/>
        </p:nvSpPr>
        <p:spPr>
          <a:xfrm>
            <a:off x="4511520" y="4275000"/>
            <a:ext cx="378000" cy="37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9" name="Oval 22"/>
          <p:cNvSpPr/>
          <p:nvPr/>
        </p:nvSpPr>
        <p:spPr>
          <a:xfrm>
            <a:off x="4203720" y="5886360"/>
            <a:ext cx="377640" cy="37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0" name="Picture 23" descr="j0251063"/>
          <p:cNvPicPr/>
          <p:nvPr/>
        </p:nvPicPr>
        <p:blipFill>
          <a:blip r:embed="rId2"/>
          <a:stretch/>
        </p:blipFill>
        <p:spPr>
          <a:xfrm>
            <a:off x="7988400" y="0"/>
            <a:ext cx="11556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9.24855E-007 C 0.00226 -0.00832 0.00521 -0.01688 0.00643 -0.02543 C 0.00747 -0.03237 0.00781 -0.03977 0.00955 -0.04647 C 0.01059 -0.05063 0.01181 -0.05503 0.01285 -0.05919 C 0.01337 -0.06127 0.01441 -0.06543 0.01441 -0.06543 C 0.01354 -0.08462 0.01302 -0.13572 -3.88889E-006 -0.15214 C -0.00052 -0.15422 -0.00069 -0.15653 -0.00156 -0.15861 C -0.0033 -0.163 -0.00781 -0.1711 -0.00781 -0.1711 C -0.01232 -0.18959 -0.00607 -0.16717 -0.01267 -0.18173 C -0.01354 -0.18358 -0.01337 -0.18613 -0.01423 -0.18821 C -0.01597 -0.1926 -0.0184 -0.19653 -0.02048 -0.20069 C -0.02153 -0.20277 -0.02378 -0.20717 -0.02378 -0.20717 C -0.02691 -0.21988 -0.03507 -0.22867 -0.04271 -0.23676 C -0.04809 -0.24231 -0.05225 -0.24878 -0.05868 -0.25156 C -0.06302 -0.25549 -0.0658 -0.25988 -0.06979 -0.26428 C -0.07378 -0.26867 -0.0776 -0.27144 -0.0809 -0.27699 C -0.08212 -0.27907 -0.08281 -0.28139 -0.08403 -0.28324 C -0.08646 -0.28693 -0.09201 -0.29387 -0.09201 -0.29387 C -0.09566 -0.30867 -0.0941 -0.30243 -0.0967 -0.31283 C -0.09722 -0.31491 -0.09774 -0.31699 -0.09826 -0.31907 C -0.09878 -0.32115 -0.1 -0.32555 -0.1 -0.32555 C -0.09739 -0.33803 -0.09548 -0.3489 -0.08559 -0.35306 C -0.07812 -0.35977 -0.08281 -0.3563 -0.07135 -0.36139 C -0.06979 -0.36208 -0.06666 -0.36347 -0.06666 -0.36347 C -0.05798 -0.37503 -0.03073 -0.38081 -0.01892 -0.38266 C -0.00399 -0.37595 0.01597 -0.39537 0.02709 -0.38058 E">
                                      <p:cBhvr>
                                        <p:cTn id="733" dur="2000" fill="hold"/>
                                        <p:tgtEl>
                                          <p:spTgt spid="1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89017E-007 C 0.01319 0.01156 0.03194 0.00578 0.04756 0.00832 C 0.06736 0.01549 0.08836 0.0148 0.10798 0.02312 C 0.11059 0.02682 0.11197 0.0296 0.11579 0.03168 C 0.11892 0.03353 0.12534 0.03584 0.12534 0.03584 C 0.12829 0.04208 0.13177 0.0467 0.13489 0.05272 C 0.14184 0.08069 0.15017 0.10867 0.15555 0.13734 C 0.15503 0.15468 0.15677 0.18428 0.14913 0.20301 C 0.14201 0.22035 0.13125 0.23422 0.11909 0.24509 C 0.11267 0.25087 0.10572 0.2622 0.09843 0.26636 C 0.09062 0.27098 0.08125 0.27329 0.07465 0.28116 C 0.06875 0.28809 0.06562 0.29526 0.06024 0.3022 C 0.05607 0.31954 0.05017 0.33549 0.046 0.35306 C 0.04427 0.36046 0.04427 0.36855 0.04288 0.37618 C 0.04149 0.38335 0.03958 0.38983 0.03958 0.39746 E">
                                      <p:cBhvr>
                                        <p:cTn id="749" dur="2000" fill="hold"/>
                                        <p:tgtEl>
                                          <p:spTgt spid="1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43353E-006 C -0.00157 -0.01271 -0.00487 -0.02173 -0.00798 -0.03375 C -0.00921 -0.03861 -0.00955 -0.04392 -0.01112 -0.04855 C -0.01181 -0.05086 -0.01336 -0.05271 -0.01423 -0.05502 C -0.01494 -0.0571 -0.01527 -0.05918 -0.01579 -0.06126 C -0.01858 -0.08832 -0.02049 -0.11167 -0.01579 -0.13965 C -0.0151 -0.14427 -0.01371 -0.16115 -0.01112 -0.16485 C -0.00643 -0.17155 -0.00122 -0.18427 0.00485 -0.1882 C 0.00782 -0.19005 0.01424 -0.19236 0.01424 -0.19236 C 0.01858 -0.19791 0.02309 -0.19861 0.02865 -0.20092 C 0.03664 -0.20022 0.04445 -0.19999 0.05243 -0.19884 C 0.05573 -0.19837 0.05886 -0.19768 0.06198 -0.19652 C 0.06528 -0.19537 0.07153 -0.19236 0.07153 -0.19236 C 0.08542 -0.17988 0.09775 -0.16785 0.10955 -0.15213 C 0.11337 -0.14704 0.11546 -0.14034 0.1191 -0.13525 C 0.12118 -0.12716 0.12414 -0.11791 0.12865 -0.11213 C 0.13091 -0.09941 0.12952 -0.10612 0.13334 -0.09086 C 0.13386 -0.08878 0.1349 -0.08462 0.1349 -0.08462 C 0.13334 -0.05225 0.13455 -0.0215 0.13177 0.01064 C 0.12865 0.04625 0.11962 0.08139 0.11424 0.11631 C 0.11233 0.12833 0.1125 0.14059 0.10955 0.15215 C 0.1066 0.17619 0.09896 0.21642 0.08091 0.22822 C 0.07014 0.23515 0.05764 0.237 0.04601 0.23885 C 0.01702 0.22914 0.04827 0.23885 -0.02848 0.23885 C -0.0302 0.23885 -0.03333 0.23677 -0.03333 0.23677 E">
                                      <p:cBhvr>
                                        <p:cTn id="763" dur="2000" fill="hold"/>
                                        <p:tgtEl>
                                          <p:spTgt spid="1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78035E-006 C -0.01284 -0.00579 0.00191 -5.78035E-006 -0.02691 -5.78035E-006 C -0.0375 -5.78035E-006 -0.04809 -0.00325 -0.05868 -0.00417 C -0.06927 -0.00625 -0.07968 -0.00879 -0.09045 -0.01064 C -0.0967 -0.01342 -0.1033 -0.01434 -0.10955 -0.01689 C -0.11267 -0.01804 -0.11892 -0.02105 -0.11892 -0.02105 C -0.1276 -0.03261 -0.12847 -0.03793 -0.13489 -0.05064 C -0.13958 -0.07677 -0.14739 -0.10267 -0.15069 -0.12903 C -0.1526 -0.14521 -0.15156 -0.14544 -0.15399 -0.1607 C -0.15607 -0.17481 -0.15972 -0.18891 -0.1618 -0.20301 C -0.16753 -0.24348 -0.17152 -0.28463 -0.17448 -0.32556 C -0.17413 -0.32903 -0.17309 -0.34544 -0.17135 -0.35099 C -0.16788 -0.36186 -0.15555 -0.36995 -0.14757 -0.37203 C -0.12569 -0.36879 -0.10486 -0.36417 -0.08402 -0.35515 C -0.08246 -0.35377 -0.08107 -0.35215 -0.07934 -0.35099 C -0.07777 -0.35007 -0.07587 -0.35007 -0.07448 -0.34891 C -0.06337 -0.33989 -0.08038 -0.34845 -0.06666 -0.34244 C -0.06423 -0.33943 -0.06076 -0.33758 -0.05868 -0.33411 C -0.05034 -0.31978 -0.06562 -0.33481 -0.05225 -0.32348 C -0.04843 -0.30799 -0.05156 -0.314 -0.04444 -0.30452 C -0.04271 -0.29758 -0.04184 -0.29273 -0.03802 -0.28741 C -0.03646 -0.27723 -0.03177 -0.26614 -0.03177 -0.25573 E">
                                      <p:cBhvr>
                                        <p:cTn id="779" dur="20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Text Box 4"/>
          <p:cNvSpPr/>
          <p:nvPr/>
        </p:nvSpPr>
        <p:spPr>
          <a:xfrm>
            <a:off x="539640" y="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66ffff"/>
                </a:solidFill>
                <a:latin typeface="Tahoma"/>
              </a:rPr>
              <a:t>Geolog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2" name="Text Box 5"/>
          <p:cNvSpPr/>
          <p:nvPr/>
        </p:nvSpPr>
        <p:spPr>
          <a:xfrm>
            <a:off x="0" y="782640"/>
            <a:ext cx="860436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Learn Parts of the earth and their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Convection currents and what makes the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(read Earths structure pg 104) esp the erosion cy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ollision zones at plate bound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Tahoma"/>
              </a:rPr>
              <a:t>Volcanoes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(structure - know parts) – lava cools on the outside of a volcano </a:t>
            </a:r>
            <a:r>
              <a:rPr b="1" lang="en-NZ" sz="2800" spc="-1" strike="noStrike">
                <a:solidFill>
                  <a:srgbClr val="66ccff"/>
                </a:solidFill>
                <a:latin typeface="Tahoma"/>
              </a:rPr>
              <a:t>very quickly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and forms rock with </a:t>
            </a:r>
            <a:r>
              <a:rPr b="1" lang="en-NZ" sz="2800" spc="-1" strike="noStrike">
                <a:solidFill>
                  <a:srgbClr val="66ccff"/>
                </a:solidFill>
                <a:latin typeface="Tahoma"/>
              </a:rPr>
              <a:t>very small crystals .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The magma trapped inside the volcano </a:t>
            </a:r>
            <a:r>
              <a:rPr b="1" lang="en-NZ" sz="2800" spc="-1" strike="noStrike">
                <a:solidFill>
                  <a:srgbClr val="00ff00"/>
                </a:solidFill>
                <a:latin typeface="Tahoma"/>
              </a:rPr>
              <a:t>cools very slowly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and forms </a:t>
            </a:r>
            <a:r>
              <a:rPr b="1" lang="en-NZ" sz="2800" spc="-1" strike="noStrike">
                <a:solidFill>
                  <a:srgbClr val="00ff00"/>
                </a:solidFill>
                <a:latin typeface="Tahoma"/>
              </a:rPr>
              <a:t>large crystals Q6 page 1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Earthquakes what causes them read stress </a:t>
            </a:r>
            <a:r>
              <a:rPr b="0" lang="en-NZ" sz="2800" spc="-1" strike="noStrike">
                <a:solidFill>
                  <a:srgbClr val="00ff00"/>
                </a:solidFill>
                <a:latin typeface="Tahoma"/>
              </a:rPr>
              <a:t>fractures pg 1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Text Box 4"/>
          <p:cNvSpPr/>
          <p:nvPr/>
        </p:nvSpPr>
        <p:spPr>
          <a:xfrm>
            <a:off x="539640" y="765000"/>
            <a:ext cx="813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Be able to name the 2 plates that meet on the fault line that runs through New Zealan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Complete Q 9 page 10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6"/>
          <p:cNvSpPr/>
          <p:nvPr/>
        </p:nvSpPr>
        <p:spPr>
          <a:xfrm>
            <a:off x="357120" y="714240"/>
            <a:ext cx="784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ff"/>
                </a:solidFill>
                <a:latin typeface="Comic Sans MS"/>
              </a:rPr>
              <a:t>Know the structure of the a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What is an 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ff"/>
                </a:solidFill>
                <a:latin typeface="Comic Sans MS"/>
              </a:rPr>
              <a:t>An ion is an atom that has lost electrons to form a +ve 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ff"/>
                </a:solidFill>
                <a:latin typeface="Comic Sans MS"/>
              </a:rPr>
              <a:t>or an atom that has gained electrons to form a –ve 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9" name=""/>
          <p:cNvGraphicFramePr/>
          <p:nvPr/>
        </p:nvGraphicFramePr>
        <p:xfrm>
          <a:off x="611280" y="620640"/>
          <a:ext cx="7775640" cy="4027680"/>
        </p:xfrm>
        <a:graphic>
          <a:graphicData uri="http://schemas.openxmlformats.org/drawingml/2006/table">
            <a:tbl>
              <a:tblPr/>
              <a:tblGrid>
                <a:gridCol w="1942920"/>
                <a:gridCol w="583272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ou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bers of each at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NZ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MnO</a:t>
                      </a:r>
                      <a:r>
                        <a:rPr b="0" lang="en-NZ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HSO</a:t>
                      </a:r>
                      <a:r>
                        <a:rPr b="0" lang="en-NZ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(NO</a:t>
                      </a:r>
                      <a:r>
                        <a:rPr b="0" lang="en-NZ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NZ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NZ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0" name="Text Box 77"/>
          <p:cNvSpPr/>
          <p:nvPr/>
        </p:nvSpPr>
        <p:spPr>
          <a:xfrm>
            <a:off x="2700360" y="1628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K , 1 x O , 1x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Text Box 78"/>
          <p:cNvSpPr/>
          <p:nvPr/>
        </p:nvSpPr>
        <p:spPr>
          <a:xfrm>
            <a:off x="2771640" y="2133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C , 1 x O , 4x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Text Box 79"/>
          <p:cNvSpPr/>
          <p:nvPr/>
        </p:nvSpPr>
        <p:spPr>
          <a:xfrm>
            <a:off x="2627280" y="2924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K , 1 x Mn , 4x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Text Box 80"/>
          <p:cNvSpPr/>
          <p:nvPr/>
        </p:nvSpPr>
        <p:spPr>
          <a:xfrm>
            <a:off x="2627280" y="3645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Na , 1 x H , 1x S , 4 x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Text Box 81"/>
          <p:cNvSpPr/>
          <p:nvPr/>
        </p:nvSpPr>
        <p:spPr>
          <a:xfrm>
            <a:off x="2627280" y="4149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1 x Al , 3 x N  , 9 x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4"/>
          <p:cNvSpPr/>
          <p:nvPr/>
        </p:nvSpPr>
        <p:spPr>
          <a:xfrm>
            <a:off x="324000" y="476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You must be able to write balanced formula for compounds using an ion 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2268360" y="2060640"/>
          <a:ext cx="5222880" cy="3200400"/>
        </p:xfrm>
        <a:graphic>
          <a:graphicData uri="http://schemas.openxmlformats.org/drawingml/2006/table">
            <a:tbl>
              <a:tblPr/>
              <a:tblGrid>
                <a:gridCol w="1044720"/>
                <a:gridCol w="1044720"/>
                <a:gridCol w="1044360"/>
                <a:gridCol w="1044720"/>
                <a:gridCol w="104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7" name=""/>
          <p:cNvGraphicFramePr/>
          <p:nvPr/>
        </p:nvGraphicFramePr>
        <p:xfrm>
          <a:off x="1692360" y="260280"/>
          <a:ext cx="6696000" cy="4664160"/>
        </p:xfrm>
        <a:graphic>
          <a:graphicData uri="http://schemas.openxmlformats.org/drawingml/2006/table">
            <a:tbl>
              <a:tblPr/>
              <a:tblGrid>
                <a:gridCol w="934920"/>
                <a:gridCol w="1224000"/>
                <a:gridCol w="865080"/>
                <a:gridCol w="1943280"/>
                <a:gridCol w="172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lor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x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rr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ydrox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bon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rro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lf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en-US" sz="24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arbonat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4"/>
          <p:cNvSpPr/>
          <p:nvPr/>
        </p:nvSpPr>
        <p:spPr>
          <a:xfrm>
            <a:off x="611280" y="393372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Text Box 5"/>
          <p:cNvSpPr/>
          <p:nvPr/>
        </p:nvSpPr>
        <p:spPr>
          <a:xfrm>
            <a:off x="324000" y="42102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formula for: hydrogen chlo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dium 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lcium hydrox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zinc sulf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luminium carbo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692360" y="260280"/>
          <a:ext cx="6737400" cy="3954600"/>
        </p:xfrm>
        <a:graphic>
          <a:graphicData uri="http://schemas.openxmlformats.org/drawingml/2006/table">
            <a:tbl>
              <a:tblPr/>
              <a:tblGrid>
                <a:gridCol w="941400"/>
                <a:gridCol w="1230120"/>
                <a:gridCol w="871560"/>
                <a:gridCol w="1954440"/>
                <a:gridCol w="17398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lor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x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rr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ydrox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bon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rr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it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lf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en-US" sz="18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carbonate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Text Box 59"/>
          <p:cNvSpPr/>
          <p:nvPr/>
        </p:nvSpPr>
        <p:spPr>
          <a:xfrm>
            <a:off x="6156360" y="4221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H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Text Box 60"/>
          <p:cNvSpPr/>
          <p:nvPr/>
        </p:nvSpPr>
        <p:spPr>
          <a:xfrm>
            <a:off x="6264360" y="4653000"/>
            <a:ext cx="28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Na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2</a:t>
            </a: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Text Box 61"/>
          <p:cNvSpPr/>
          <p:nvPr/>
        </p:nvSpPr>
        <p:spPr>
          <a:xfrm>
            <a:off x="6300720" y="5229360"/>
            <a:ext cx="194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Ca(OH)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Text Box 62"/>
          <p:cNvSpPr/>
          <p:nvPr/>
        </p:nvSpPr>
        <p:spPr>
          <a:xfrm>
            <a:off x="6300720" y="5805360"/>
            <a:ext cx="25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ZnSO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Text Box 63"/>
          <p:cNvSpPr/>
          <p:nvPr/>
        </p:nvSpPr>
        <p:spPr>
          <a:xfrm>
            <a:off x="6227640" y="6381720"/>
            <a:ext cx="208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Al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2</a:t>
            </a: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(CO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3</a:t>
            </a:r>
            <a:r>
              <a:rPr b="1" lang="en-NZ" sz="2400" spc="-1" strike="noStrike">
                <a:solidFill>
                  <a:srgbClr val="66ccff"/>
                </a:solidFill>
                <a:latin typeface="Tahoma"/>
              </a:rPr>
              <a:t>)</a:t>
            </a:r>
            <a:r>
              <a:rPr b="1" lang="en-NZ" sz="2400" spc="-1" strike="noStrike" baseline="-25000">
                <a:solidFill>
                  <a:srgbClr val="66cc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2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7" name="Group 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1198" name="AutoShape 4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9" name="Freeform 5"/>
            <p:cNvSpPr/>
            <p:nvPr/>
          </p:nvSpPr>
          <p:spPr>
            <a:xfrm>
              <a:off x="3166920" y="2428920"/>
              <a:ext cx="243000" cy="93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0" name="Freeform 6"/>
            <p:cNvSpPr/>
            <p:nvPr/>
          </p:nvSpPr>
          <p:spPr>
            <a:xfrm>
              <a:off x="3456000" y="2917800"/>
              <a:ext cx="136440" cy="9619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Freeform 7"/>
            <p:cNvSpPr/>
            <p:nvPr/>
          </p:nvSpPr>
          <p:spPr>
            <a:xfrm>
              <a:off x="3254400" y="5246640"/>
              <a:ext cx="10800" cy="763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Freeform 8"/>
            <p:cNvSpPr/>
            <p:nvPr/>
          </p:nvSpPr>
          <p:spPr>
            <a:xfrm>
              <a:off x="3254400" y="5075280"/>
              <a:ext cx="45720" cy="3207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Freeform 9"/>
            <p:cNvSpPr/>
            <p:nvPr/>
          </p:nvSpPr>
          <p:spPr>
            <a:xfrm>
              <a:off x="3254400" y="4903920"/>
              <a:ext cx="74520" cy="52848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Freeform 10"/>
            <p:cNvSpPr/>
            <p:nvPr/>
          </p:nvSpPr>
          <p:spPr>
            <a:xfrm>
              <a:off x="3254400" y="4732200"/>
              <a:ext cx="101520" cy="7239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5" name="Freeform 11"/>
            <p:cNvSpPr/>
            <p:nvPr/>
          </p:nvSpPr>
          <p:spPr>
            <a:xfrm>
              <a:off x="3254400" y="4560840"/>
              <a:ext cx="128520" cy="9097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6" name="Freeform 12"/>
            <p:cNvSpPr/>
            <p:nvPr/>
          </p:nvSpPr>
          <p:spPr>
            <a:xfrm>
              <a:off x="3254400" y="4387680"/>
              <a:ext cx="153720" cy="10908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Freeform 13"/>
            <p:cNvSpPr/>
            <p:nvPr/>
          </p:nvSpPr>
          <p:spPr>
            <a:xfrm>
              <a:off x="3252600" y="4216320"/>
              <a:ext cx="179280" cy="12636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Freeform 14"/>
            <p:cNvSpPr/>
            <p:nvPr/>
          </p:nvSpPr>
          <p:spPr>
            <a:xfrm>
              <a:off x="3252600" y="4046400"/>
              <a:ext cx="203400" cy="143208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Freeform 15"/>
            <p:cNvSpPr/>
            <p:nvPr/>
          </p:nvSpPr>
          <p:spPr>
            <a:xfrm>
              <a:off x="3252600" y="3875040"/>
              <a:ext cx="225360" cy="15987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Freeform 16"/>
            <p:cNvSpPr/>
            <p:nvPr/>
          </p:nvSpPr>
          <p:spPr>
            <a:xfrm>
              <a:off x="3252600" y="3701880"/>
              <a:ext cx="247680" cy="17622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1" name="Freeform 17"/>
            <p:cNvSpPr/>
            <p:nvPr/>
          </p:nvSpPr>
          <p:spPr>
            <a:xfrm>
              <a:off x="3252600" y="3530520"/>
              <a:ext cx="270000" cy="19195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2" name="Freeform 18"/>
            <p:cNvSpPr/>
            <p:nvPr/>
          </p:nvSpPr>
          <p:spPr>
            <a:xfrm>
              <a:off x="3252600" y="3359160"/>
              <a:ext cx="290520" cy="20700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Freeform 19"/>
            <p:cNvSpPr/>
            <p:nvPr/>
          </p:nvSpPr>
          <p:spPr>
            <a:xfrm>
              <a:off x="3252600" y="3187800"/>
              <a:ext cx="309600" cy="22161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Freeform 20"/>
            <p:cNvSpPr/>
            <p:nvPr/>
          </p:nvSpPr>
          <p:spPr>
            <a:xfrm>
              <a:off x="3252600" y="3016080"/>
              <a:ext cx="328680" cy="23562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Freeform 21"/>
            <p:cNvSpPr/>
            <p:nvPr/>
          </p:nvSpPr>
          <p:spPr>
            <a:xfrm>
              <a:off x="3252600" y="2917800"/>
              <a:ext cx="341280" cy="241128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Freeform 22"/>
            <p:cNvSpPr/>
            <p:nvPr/>
          </p:nvSpPr>
          <p:spPr>
            <a:xfrm>
              <a:off x="3262320" y="2917800"/>
              <a:ext cx="331560" cy="233208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7" name="Freeform 23"/>
            <p:cNvSpPr/>
            <p:nvPr/>
          </p:nvSpPr>
          <p:spPr>
            <a:xfrm>
              <a:off x="3286080" y="2917800"/>
              <a:ext cx="307800" cy="21607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Freeform 24"/>
            <p:cNvSpPr/>
            <p:nvPr/>
          </p:nvSpPr>
          <p:spPr>
            <a:xfrm>
              <a:off x="3311280" y="2917800"/>
              <a:ext cx="282600" cy="19890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Freeform 25"/>
            <p:cNvSpPr/>
            <p:nvPr/>
          </p:nvSpPr>
          <p:spPr>
            <a:xfrm>
              <a:off x="3335040" y="2917800"/>
              <a:ext cx="258840" cy="181944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Freeform 26"/>
            <p:cNvSpPr/>
            <p:nvPr/>
          </p:nvSpPr>
          <p:spPr>
            <a:xfrm>
              <a:off x="3359160" y="2917800"/>
              <a:ext cx="233280" cy="16477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Freeform 27"/>
            <p:cNvSpPr/>
            <p:nvPr/>
          </p:nvSpPr>
          <p:spPr>
            <a:xfrm>
              <a:off x="3384360" y="2917800"/>
              <a:ext cx="208080" cy="14763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Freeform 28"/>
            <p:cNvSpPr/>
            <p:nvPr/>
          </p:nvSpPr>
          <p:spPr>
            <a:xfrm>
              <a:off x="3408120" y="2917800"/>
              <a:ext cx="184320" cy="130500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Freeform 29"/>
            <p:cNvSpPr/>
            <p:nvPr/>
          </p:nvSpPr>
          <p:spPr>
            <a:xfrm>
              <a:off x="3431880" y="2917800"/>
              <a:ext cx="160560" cy="113364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4" name="Freeform 30"/>
            <p:cNvSpPr/>
            <p:nvPr/>
          </p:nvSpPr>
          <p:spPr>
            <a:xfrm>
              <a:off x="3456000" y="2917800"/>
              <a:ext cx="136440" cy="9619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5" name="Freeform 31"/>
            <p:cNvSpPr/>
            <p:nvPr/>
          </p:nvSpPr>
          <p:spPr>
            <a:xfrm>
              <a:off x="3252600" y="2917800"/>
              <a:ext cx="341280" cy="256212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6" name="Freeform 32"/>
            <p:cNvSpPr/>
            <p:nvPr/>
          </p:nvSpPr>
          <p:spPr>
            <a:xfrm>
              <a:off x="3133440" y="2351160"/>
              <a:ext cx="581040" cy="10296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Freeform 33"/>
            <p:cNvSpPr/>
            <p:nvPr/>
          </p:nvSpPr>
          <p:spPr>
            <a:xfrm>
              <a:off x="3252600" y="2886120"/>
              <a:ext cx="339840" cy="651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8" name="Freeform 34"/>
            <p:cNvSpPr/>
            <p:nvPr/>
          </p:nvSpPr>
          <p:spPr>
            <a:xfrm>
              <a:off x="3252600" y="2886120"/>
              <a:ext cx="339840" cy="65160"/>
            </a:xfrm>
            <a:prstGeom prst="pie">
              <a:avLst/>
            </a:pr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9" name="Freeform 35"/>
            <p:cNvSpPr/>
            <p:nvPr/>
          </p:nvSpPr>
          <p:spPr>
            <a:xfrm>
              <a:off x="3133440" y="2401920"/>
              <a:ext cx="581040" cy="309708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0" name="Freeform 36"/>
            <p:cNvSpPr/>
            <p:nvPr/>
          </p:nvSpPr>
          <p:spPr>
            <a:xfrm>
              <a:off x="3402000" y="2360520"/>
              <a:ext cx="306360" cy="49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2" name="Group 3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1233" name="Line 39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4" name="Line 40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5" name="Group 41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1236" name="Oval 42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7" name="Oval 43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Oval 44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9" name="Oval 45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0" name="Oval 46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1" name="Oval 47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2" name="Group 4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124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5" name="Group 51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124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7" name="Freeform 53"/>
            <p:cNvSpPr/>
            <p:nvPr/>
          </p:nvSpPr>
          <p:spPr>
            <a:xfrm>
              <a:off x="3166920" y="2432160"/>
              <a:ext cx="243000" cy="9360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8" name="Freeform 54"/>
            <p:cNvSpPr/>
            <p:nvPr/>
          </p:nvSpPr>
          <p:spPr>
            <a:xfrm>
              <a:off x="3456000" y="2921040"/>
              <a:ext cx="136440" cy="9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9" name="Freeform 55"/>
            <p:cNvSpPr/>
            <p:nvPr/>
          </p:nvSpPr>
          <p:spPr>
            <a:xfrm>
              <a:off x="3254400" y="5249880"/>
              <a:ext cx="11160" cy="7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0" name="Freeform 56"/>
            <p:cNvSpPr/>
            <p:nvPr/>
          </p:nvSpPr>
          <p:spPr>
            <a:xfrm>
              <a:off x="3254400" y="5078520"/>
              <a:ext cx="46080" cy="32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1" name="Freeform 57"/>
            <p:cNvSpPr/>
            <p:nvPr/>
          </p:nvSpPr>
          <p:spPr>
            <a:xfrm>
              <a:off x="3254400" y="4907160"/>
              <a:ext cx="74520" cy="528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2" name="Freeform 58"/>
            <p:cNvSpPr/>
            <p:nvPr/>
          </p:nvSpPr>
          <p:spPr>
            <a:xfrm>
              <a:off x="3254400" y="4735440"/>
              <a:ext cx="101520" cy="72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3" name="Freeform 59"/>
            <p:cNvSpPr/>
            <p:nvPr/>
          </p:nvSpPr>
          <p:spPr>
            <a:xfrm>
              <a:off x="3254400" y="4564080"/>
              <a:ext cx="128520" cy="90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4" name="Freeform 60"/>
            <p:cNvSpPr/>
            <p:nvPr/>
          </p:nvSpPr>
          <p:spPr>
            <a:xfrm>
              <a:off x="3254400" y="4391280"/>
              <a:ext cx="153720" cy="10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5" name="Freeform 61"/>
            <p:cNvSpPr/>
            <p:nvPr/>
          </p:nvSpPr>
          <p:spPr>
            <a:xfrm>
              <a:off x="3252600" y="4219560"/>
              <a:ext cx="179640" cy="126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6" name="Freeform 62"/>
            <p:cNvSpPr/>
            <p:nvPr/>
          </p:nvSpPr>
          <p:spPr>
            <a:xfrm>
              <a:off x="3252600" y="4049640"/>
              <a:ext cx="203400" cy="14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7" name="Freeform 63"/>
            <p:cNvSpPr/>
            <p:nvPr/>
          </p:nvSpPr>
          <p:spPr>
            <a:xfrm>
              <a:off x="3252600" y="3878280"/>
              <a:ext cx="225360" cy="159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8" name="Freeform 64"/>
            <p:cNvSpPr/>
            <p:nvPr/>
          </p:nvSpPr>
          <p:spPr>
            <a:xfrm>
              <a:off x="3252600" y="3705480"/>
              <a:ext cx="247680" cy="176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9" name="Freeform 65"/>
            <p:cNvSpPr/>
            <p:nvPr/>
          </p:nvSpPr>
          <p:spPr>
            <a:xfrm>
              <a:off x="3252600" y="3533760"/>
              <a:ext cx="270000" cy="191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0" name="Freeform 66"/>
            <p:cNvSpPr/>
            <p:nvPr/>
          </p:nvSpPr>
          <p:spPr>
            <a:xfrm>
              <a:off x="3252600" y="3362400"/>
              <a:ext cx="290520" cy="20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1" name="Freeform 67"/>
            <p:cNvSpPr/>
            <p:nvPr/>
          </p:nvSpPr>
          <p:spPr>
            <a:xfrm>
              <a:off x="3252600" y="3191040"/>
              <a:ext cx="309600" cy="221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2" name="Freeform 68"/>
            <p:cNvSpPr/>
            <p:nvPr/>
          </p:nvSpPr>
          <p:spPr>
            <a:xfrm>
              <a:off x="3252600" y="3019680"/>
              <a:ext cx="328680" cy="235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3" name="Freeform 69"/>
            <p:cNvSpPr/>
            <p:nvPr/>
          </p:nvSpPr>
          <p:spPr>
            <a:xfrm>
              <a:off x="3252600" y="2921040"/>
              <a:ext cx="341280" cy="241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4" name="Freeform 70"/>
            <p:cNvSpPr/>
            <p:nvPr/>
          </p:nvSpPr>
          <p:spPr>
            <a:xfrm>
              <a:off x="3262320" y="2921040"/>
              <a:ext cx="331560" cy="23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5" name="Freeform 71"/>
            <p:cNvSpPr/>
            <p:nvPr/>
          </p:nvSpPr>
          <p:spPr>
            <a:xfrm>
              <a:off x="3286080" y="2921040"/>
              <a:ext cx="307800" cy="216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6" name="Freeform 72"/>
            <p:cNvSpPr/>
            <p:nvPr/>
          </p:nvSpPr>
          <p:spPr>
            <a:xfrm>
              <a:off x="3311280" y="2921040"/>
              <a:ext cx="282600" cy="198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7" name="Freeform 73"/>
            <p:cNvSpPr/>
            <p:nvPr/>
          </p:nvSpPr>
          <p:spPr>
            <a:xfrm>
              <a:off x="3335400" y="2921040"/>
              <a:ext cx="258480" cy="181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8" name="Freeform 74"/>
            <p:cNvSpPr/>
            <p:nvPr/>
          </p:nvSpPr>
          <p:spPr>
            <a:xfrm>
              <a:off x="3359160" y="2921040"/>
              <a:ext cx="233280" cy="164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9" name="Freeform 75"/>
            <p:cNvSpPr/>
            <p:nvPr/>
          </p:nvSpPr>
          <p:spPr>
            <a:xfrm>
              <a:off x="3384360" y="2921040"/>
              <a:ext cx="208080" cy="147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0" name="Freeform 76"/>
            <p:cNvSpPr/>
            <p:nvPr/>
          </p:nvSpPr>
          <p:spPr>
            <a:xfrm>
              <a:off x="3408120" y="2921040"/>
              <a:ext cx="184320" cy="130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1" name="Freeform 77"/>
            <p:cNvSpPr/>
            <p:nvPr/>
          </p:nvSpPr>
          <p:spPr>
            <a:xfrm>
              <a:off x="3432240" y="2921040"/>
              <a:ext cx="160200" cy="113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2" name="Freeform 78"/>
            <p:cNvSpPr/>
            <p:nvPr/>
          </p:nvSpPr>
          <p:spPr>
            <a:xfrm>
              <a:off x="3456000" y="2921040"/>
              <a:ext cx="136440" cy="9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3" name="Freeform 79"/>
            <p:cNvSpPr/>
            <p:nvPr/>
          </p:nvSpPr>
          <p:spPr>
            <a:xfrm>
              <a:off x="3252600" y="2921040"/>
              <a:ext cx="341280" cy="2562120"/>
            </a:xfrm>
            <a:prstGeom prst="pie">
              <a:avLst/>
            </a:pr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4" name="Freeform 80"/>
            <p:cNvSpPr/>
            <p:nvPr/>
          </p:nvSpPr>
          <p:spPr>
            <a:xfrm>
              <a:off x="3133800" y="2354400"/>
              <a:ext cx="581040" cy="10332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5" name="Freeform 81"/>
            <p:cNvSpPr/>
            <p:nvPr/>
          </p:nvSpPr>
          <p:spPr>
            <a:xfrm>
              <a:off x="3252600" y="2889360"/>
              <a:ext cx="33984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6" name="Freeform 82"/>
            <p:cNvSpPr/>
            <p:nvPr/>
          </p:nvSpPr>
          <p:spPr>
            <a:xfrm>
              <a:off x="3252600" y="2889360"/>
              <a:ext cx="339840" cy="65160"/>
            </a:xfrm>
            <a:prstGeom prst="pie">
              <a:avLst/>
            </a:pr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7" name="Freeform 83"/>
            <p:cNvSpPr/>
            <p:nvPr/>
          </p:nvSpPr>
          <p:spPr>
            <a:xfrm>
              <a:off x="3133800" y="2405160"/>
              <a:ext cx="581040" cy="3097080"/>
            </a:xfrm>
            <a:prstGeom prst="pie">
              <a:avLst/>
            </a:pr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8" name="Freeform 84"/>
            <p:cNvSpPr/>
            <p:nvPr/>
          </p:nvSpPr>
          <p:spPr>
            <a:xfrm>
              <a:off x="3402000" y="2363760"/>
              <a:ext cx="306360" cy="49320"/>
            </a:xfrm>
            <a:prstGeom prst="pie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79" name="Group 85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280" name="Text Box 86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1" name="AutoShape 87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2" name="Group 88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283" name="Text Box 89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4" name="AutoShape 90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2:53:09Z</dcterms:created>
  <dc:creator>Ministry of Education</dc:creator>
  <dc:description/>
  <dc:language>en-US</dc:language>
  <cp:lastModifiedBy>Ministry of Education</cp:lastModifiedBy>
  <dcterms:modified xsi:type="dcterms:W3CDTF">2010-11-14T04:59:36Z</dcterms:modified>
  <cp:revision>67</cp:revision>
  <dc:subject/>
  <dc:title>Slide 1</dc:title>
</cp:coreProperties>
</file>